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EAB-A5A6-46B6-A357-273D13D2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0752-403D-434C-83C2-69700A2F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C2F-B690-42B4-B682-0F4DC99B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3DE-BF31-4EE0-827F-71EA3A6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453-FB38-432D-970D-B50D4C4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E8A-C673-4962-A28C-02F142D7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F47-2C21-42ED-9A39-041D81D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43F-1082-4C30-AF06-391B80A4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693-EE25-48EA-AF52-DD891AB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65C-11E3-48AE-BFDA-E2F5C17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40B-B423-4223-A28D-BB72B92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956-F903-4942-8DB0-E1DBAB85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618-EB09-4F16-8F23-B9EB3ED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64A-CB3A-41C7-8376-02E70D3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A02-72A0-44FA-80C3-F81FE8002F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4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560" y="2952720"/>
            <a:ext cx="878508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Картина 7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50" name="Правоъгълник 2"/>
          <p:cNvSpPr/>
          <p:nvPr/>
        </p:nvSpPr>
        <p:spPr>
          <a:xfrm>
            <a:off x="1476360" y="1557360"/>
            <a:ext cx="6191280" cy="113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ЕСТВЕНО ОБСЪЖД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 НА ПЛАН ЗА УПРАВЛЕНИЕ НА ПОДДЪРЖАН РЕЗЕРВА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ЯСЪЧНАТА ЛИЛИЯ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екстово поле 11"/>
          <p:cNvSpPr/>
          <p:nvPr/>
        </p:nvSpPr>
        <p:spPr>
          <a:xfrm>
            <a:off x="3564000" y="5373720"/>
            <a:ext cx="19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прил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3"/>
          <a:stretch/>
        </p:blipFill>
        <p:spPr>
          <a:xfrm>
            <a:off x="2878200" y="2844720"/>
            <a:ext cx="3387600" cy="23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4"/>
          <a:stretch/>
        </p:blipFill>
        <p:spPr>
          <a:xfrm>
            <a:off x="936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269720"/>
          </a:xfrm>
          <a:prstGeom prst="rect">
            <a:avLst/>
          </a:prstGeom>
          <a:ln w="0">
            <a:noFill/>
          </a:ln>
        </p:spPr>
      </p:pic>
      <p:sp>
        <p:nvSpPr>
          <p:cNvPr id="93" name="Правоъгълник 5"/>
          <p:cNvSpPr/>
          <p:nvPr/>
        </p:nvSpPr>
        <p:spPr>
          <a:xfrm>
            <a:off x="465120" y="12114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ърва оценка - 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кологичн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95" name="Текстово поле 6"/>
          <p:cNvSpPr/>
          <p:nvPr/>
        </p:nvSpPr>
        <p:spPr>
          <a:xfrm>
            <a:off x="465120" y="2198520"/>
            <a:ext cx="828360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правена е екологична оценка на базата на събраната информация за абиотичните и биотичните компоненти и елементи и социално-икономическата характеристика, по критериите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язвимост, рядкост, естественост, типичност, размери, биологично разнообразие, стабилност и нестабил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язвим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пясъчната лилия и комплексът от висши растения, в т.ч. и лечебните, са със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а до силна степ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 уязвимо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ерките следва да са насочени към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граничаване на интензивното човешко присъстви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мърсяван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в границите на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ядк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ясъчната лилия се оценява с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исока степ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 рядкост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окал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ен и световен мащаб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а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и – със средн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ечебни растения 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а степе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е 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исока степен на рядк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269720"/>
          </a:xfrm>
          <a:prstGeom prst="rect">
            <a:avLst/>
          </a:prstGeom>
          <a:ln w="0">
            <a:noFill/>
          </a:ln>
        </p:spPr>
      </p:pic>
      <p:sp>
        <p:nvSpPr>
          <p:cNvPr id="98" name="Правоъгълник 5"/>
          <p:cNvSpPr/>
          <p:nvPr/>
        </p:nvSpPr>
        <p:spPr>
          <a:xfrm>
            <a:off x="179280" y="1268280"/>
            <a:ext cx="840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ърва оценка - 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кологичн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Текстово поле 6"/>
          <p:cNvSpPr/>
          <p:nvPr/>
        </p:nvSpPr>
        <p:spPr>
          <a:xfrm>
            <a:off x="1068480" y="2336760"/>
            <a:ext cx="70070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стестве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територията се характеризира с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исока степен на естестве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ипич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територията се характеризира с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исока степен на типич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азмер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територията на поддържания резерват 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ителна спрямо заложените цели за опазване на биологичното разнообрази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иологично разнообраз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ценката 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табилност и нестабил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ценката е от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една до вис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03" name="Правоъгълник 5"/>
          <p:cNvSpPr/>
          <p:nvPr/>
        </p:nvSpPr>
        <p:spPr>
          <a:xfrm>
            <a:off x="-228600" y="1268280"/>
            <a:ext cx="9372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ърва оценка 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циална и икономическ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" descr=""/>
          <p:cNvPicPr/>
          <p:nvPr/>
        </p:nvPicPr>
        <p:blipFill>
          <a:blip r:embed="rId4"/>
          <a:stretch/>
        </p:blipFill>
        <p:spPr>
          <a:xfrm>
            <a:off x="684360" y="2004840"/>
            <a:ext cx="7775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Картина 3" descr=""/>
          <p:cNvPicPr/>
          <p:nvPr/>
        </p:nvPicPr>
        <p:blipFill>
          <a:blip r:embed="rId2"/>
          <a:stretch/>
        </p:blipFill>
        <p:spPr>
          <a:xfrm>
            <a:off x="9360" y="-3636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08" name="Правоъгълник 5"/>
          <p:cNvSpPr/>
          <p:nvPr/>
        </p:nvSpPr>
        <p:spPr>
          <a:xfrm>
            <a:off x="-244440" y="1284120"/>
            <a:ext cx="896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ърва оценка 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тенциална стойност на защитената те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Текстово поле 6"/>
          <p:cNvSpPr/>
          <p:nvPr/>
        </p:nvSpPr>
        <p:spPr>
          <a:xfrm>
            <a:off x="539640" y="2141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4"/>
          <a:stretch/>
        </p:blipFill>
        <p:spPr>
          <a:xfrm>
            <a:off x="1446120" y="2095560"/>
            <a:ext cx="66121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7" descr=""/>
          <p:cNvPicPr/>
          <p:nvPr/>
        </p:nvPicPr>
        <p:blipFill>
          <a:blip r:embed="rId1"/>
          <a:stretch/>
        </p:blipFill>
        <p:spPr>
          <a:xfrm>
            <a:off x="725400" y="2205000"/>
            <a:ext cx="7785360" cy="3600360"/>
          </a:xfrm>
          <a:prstGeom prst="rect">
            <a:avLst/>
          </a:prstGeom>
          <a:ln w="0">
            <a:noFill/>
          </a:ln>
        </p:spPr>
      </p:pic>
      <p:pic>
        <p:nvPicPr>
          <p:cNvPr id="113" name="Картина 3" descr=""/>
          <p:cNvPicPr/>
          <p:nvPr/>
        </p:nvPicPr>
        <p:blipFill>
          <a:blip r:embed="rId2"/>
          <a:stretch/>
        </p:blipFill>
        <p:spPr>
          <a:xfrm>
            <a:off x="9360" y="-36360"/>
            <a:ext cx="9144000" cy="137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156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ърва оценка - 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и и специфични проблеми на територия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18" name="Правоъгълник 5"/>
          <p:cNvSpPr/>
          <p:nvPr/>
        </p:nvSpPr>
        <p:spPr>
          <a:xfrm>
            <a:off x="108000" y="145404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2: ДЪЛГОСРОЧНИ ЦЕЛИ 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Текстово поле 6"/>
          <p:cNvSpPr/>
          <p:nvPr/>
        </p:nvSpPr>
        <p:spPr>
          <a:xfrm>
            <a:off x="539640" y="2141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24000" y="2109960"/>
            <a:ext cx="431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цел 1: Опазване и поддържане на пясъчната лилия и популации на съпътстващи растителни вид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цел 2: Опазване на ландшафта и местообитанията на псамофитната растителн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торостепенна цел 1: Институционално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4"/>
          <a:stretch/>
        </p:blipFill>
        <p:spPr>
          <a:xfrm>
            <a:off x="4915080" y="2421000"/>
            <a:ext cx="3929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25" name="Правоъгълник 5"/>
          <p:cNvSpPr/>
          <p:nvPr/>
        </p:nvSpPr>
        <p:spPr>
          <a:xfrm>
            <a:off x="179280" y="135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2: ДЪЛГОСРОЧНИ ЦЕЛИ 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611280" y="2133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Текстово поле 6"/>
          <p:cNvSpPr/>
          <p:nvPr/>
        </p:nvSpPr>
        <p:spPr>
          <a:xfrm>
            <a:off x="1038240" y="2281320"/>
            <a:ext cx="7128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Промени в климата, почвите, хидроложкия реж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мените в климатичните и почвените условия, както и в хидроложкия режим водят до промяна във видовия състав, намаляване и дори изчезване на консервационно значими видове и хабита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родни бед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ат да доведат до значителни загуби на биологично разнообразие и неизпълнение на целите на поддържания резерват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укцесии, междувидова конкуренция, изолация и др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чащите сукцесии може да доведат до промяна в местообитанието на пясъчната лилия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видовата конкуренция и каламитетите може да засилят уязвимостта на пясъчната лилия. Разделението на територията създава риск от изол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31" name="Правоъгълник 5"/>
          <p:cNvSpPr/>
          <p:nvPr/>
        </p:nvSpPr>
        <p:spPr>
          <a:xfrm>
            <a:off x="155520" y="14954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2: ДЪЛГОСРОЧНИ ЦЕЛИ 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Текстово поле 6"/>
          <p:cNvSpPr/>
          <p:nvPr/>
        </p:nvSpPr>
        <p:spPr>
          <a:xfrm>
            <a:off x="826920" y="2317680"/>
            <a:ext cx="741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Замърсяване на околн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становено е генериране на битови и строителни отпадъци в близост до границите на ПР, което ако не се прилагат мерки, би могло да се прехвърли в границите на ПР и да доведе до увреждане на популаци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Е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ъм момента няма установени ерозионни процеси, нарушения на ландшафта и увредени местооб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Навлизане на чужди вид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яма установени инвазивни видове. Установени са неместни, чужди видове, които представляват негативна тенденция по отношение на изпълнението  на целите на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611280" y="2133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37" name="Правоъгълник 5"/>
          <p:cNvSpPr/>
          <p:nvPr/>
        </p:nvSpPr>
        <p:spPr>
          <a:xfrm>
            <a:off x="-228600" y="128268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2: ДЪЛГОСРОЧНИ ЦЕЛИ 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11280" y="2133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140" name="Текстово поле 6"/>
          <p:cNvSpPr/>
          <p:nvPr/>
        </p:nvSpPr>
        <p:spPr>
          <a:xfrm>
            <a:off x="1325520" y="2176560"/>
            <a:ext cx="6264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Прекомерен туристически нати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положението на ПР в близост до силно урбанизирана територия, преминаването на постоянен туристопоток в непосредствена близост до ПР представлява съществена заплаха за целите на П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зване на ресур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лахата за целите на резервата представлява нерегламентираното бране на цветя и/или луковици на пясъчна лилия от тури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43" name="Правоъгълник 5"/>
          <p:cNvSpPr/>
          <p:nvPr/>
        </p:nvSpPr>
        <p:spPr>
          <a:xfrm>
            <a:off x="-230040" y="13716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2: ДЪЛГОСРОЧНИ ЦЕЛИ И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Текстово поле 6"/>
          <p:cNvSpPr/>
          <p:nvPr/>
        </p:nvSpPr>
        <p:spPr>
          <a:xfrm>
            <a:off x="466560" y="1916280"/>
            <a:ext cx="820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рамките на плана за управление е направена оценка на ефекта на ограниченията върху  дългосрочните ц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та е извършена по следната схе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ползвана е следната ска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611280" y="2133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1503360" y="4695840"/>
          <a:ext cx="590544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3360" y="4695840"/>
                    <a:ext cx="59054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9" descr=""/>
          <p:cNvPicPr/>
          <p:nvPr/>
        </p:nvPicPr>
        <p:blipFill>
          <a:blip r:embed="rId5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6"/>
          <a:stretch/>
        </p:blipFill>
        <p:spPr>
          <a:xfrm>
            <a:off x="466560" y="3348000"/>
            <a:ext cx="77374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56" name="Правоъгълник 2"/>
          <p:cNvSpPr/>
          <p:nvPr/>
        </p:nvSpPr>
        <p:spPr>
          <a:xfrm>
            <a:off x="2648160" y="1498680"/>
            <a:ext cx="38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ahoma"/>
              </a:rPr>
              <a:t>УЧАСТНИЦИ В ОБСЪЖДАН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4920" y="2271600"/>
            <a:ext cx="50590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ъзложите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РИОСВ-Бург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щина Созоп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Жители и представител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 общинското ръково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готвители на плана за управл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нсорциум «Стратегическо планиране 2014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едставители на МОС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ържавни и местни административни струк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правителствен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80ff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р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936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4"/>
          <a:stretch/>
        </p:blipFill>
        <p:spPr>
          <a:xfrm>
            <a:off x="5354640" y="2271600"/>
            <a:ext cx="34830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52" name="Текстово поле 6"/>
          <p:cNvSpPr/>
          <p:nvPr/>
        </p:nvSpPr>
        <p:spPr>
          <a:xfrm>
            <a:off x="539640" y="2141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971640" y="2882880"/>
            <a:ext cx="29527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риторията им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бър потенциал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азване на местообитанието на пясъчната лил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риторията е със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реден потенциал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развитие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учни и образователни дей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4"/>
          <a:stretch/>
        </p:blipFill>
        <p:spPr>
          <a:xfrm>
            <a:off x="4643280" y="2719440"/>
            <a:ext cx="376236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Правоъгълник 5"/>
          <p:cNvSpPr/>
          <p:nvPr/>
        </p:nvSpPr>
        <p:spPr>
          <a:xfrm>
            <a:off x="7920" y="13111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2: ДЪЛГОСРОЧНИ ЦЕЛИ И ОГРАНИЧ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</a:rPr>
              <a:t>Потенциални възможности на защитената територ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59" name="Правоъгълник 5"/>
          <p:cNvSpPr/>
          <p:nvPr/>
        </p:nvSpPr>
        <p:spPr>
          <a:xfrm>
            <a:off x="395280" y="141768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АСТ 3: НОРМИ. РЕЖИМИ. УСЛОВИЯ И ПРЕПОРЪКИ ЗА ОСЪЩЕСТВЯВАНЕ НА ДЕЙНОС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Текстово поле 6"/>
          <p:cNvSpPr/>
          <p:nvPr/>
        </p:nvSpPr>
        <p:spPr>
          <a:xfrm>
            <a:off x="557280" y="2303640"/>
            <a:ext cx="8029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 са режимите за дейностите и свързаните с тях норми, условия и препоръки, като всички решения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изтичат обосновано  и логически от аналитичната информация и оценките, представени в Част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т или водят до постигане на целите, преодоляване или ограничаване на въздействието на заплахите, идентифицирани в Част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опускат известни възможности за гъвкавост при взимане на управленски решения, в случай на евентуални или очаквани промени в обстоятелствата, напр. при бед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влизат в конфликт с нормативно определени режими или други изиск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238040"/>
          </a:xfrm>
          <a:prstGeom prst="rect">
            <a:avLst/>
          </a:prstGeom>
          <a:ln w="0">
            <a:noFill/>
          </a:ln>
        </p:spPr>
      </p:pic>
      <p:sp>
        <p:nvSpPr>
          <p:cNvPr id="164" name="Правоъгълник 5"/>
          <p:cNvSpPr/>
          <p:nvPr/>
        </p:nvSpPr>
        <p:spPr>
          <a:xfrm>
            <a:off x="684360" y="12366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пределяне на приорите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66" name="Правоъгълник 6"/>
          <p:cNvSpPr/>
          <p:nvPr/>
        </p:nvSpPr>
        <p:spPr>
          <a:xfrm>
            <a:off x="966960" y="2620800"/>
            <a:ext cx="7426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новни приоритети/направле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 отношение на организация и управление през 10-годишния период на действие на плана за управление на поддържан резерват “Пясъчната лилия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правление на територията с цел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пазване на находището на пясъчната лил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съществуващото биологично разнообраз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на благоприятното природозащитно състояние на популацията на пясъчната лилия и на нейното местообит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формационно осигуряв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ръзки с общественост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69" name="Правоъгълник 5"/>
          <p:cNvSpPr/>
          <p:nvPr/>
        </p:nvSpPr>
        <p:spPr>
          <a:xfrm>
            <a:off x="684360" y="134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и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авоъгълник 6"/>
          <p:cNvSpPr/>
          <p:nvPr/>
        </p:nvSpPr>
        <p:spPr>
          <a:xfrm>
            <a:off x="576360" y="2330280"/>
            <a:ext cx="7991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рамките на изработване на плана за управление са изготвен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грами и проек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 цел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тигане на заложените цел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всяка от програмите са посочен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оито да се изпълняват през целия период на действие на Плана за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ите са разработени подробно, като за всеки от тях са посоч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Ц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ект на прилаг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чакван резул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рок за изпъ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74" name="Правоъгълник 5"/>
          <p:cNvSpPr/>
          <p:nvPr/>
        </p:nvSpPr>
        <p:spPr>
          <a:xfrm>
            <a:off x="114480" y="13906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и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авоъгълник 6"/>
          <p:cNvSpPr/>
          <p:nvPr/>
        </p:nvSpPr>
        <p:spPr>
          <a:xfrm>
            <a:off x="611280" y="2637000"/>
            <a:ext cx="813744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Опазване и поддържане на местообитанието на пясъчната лилия и популации на съпътстващи растителни видове в границите на поддържания резерва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по програма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чна или цялостна подмяна на о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траняване на неместните и рудерални видове и на храстови микрогрупир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24000" y="2463480"/>
            <a:ext cx="849600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85840" indent="-28584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Научни изследвания и мониторинг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по програма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учване на особеностите в репродукцията на пясъчната лилия и насоките на протичащите сукцесионни процеси в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Повишаване на обществената информираност и образова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по програма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даване на брошури за поддържания резерват и разработване на разнообразни образователни пакети за поддържания резерв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Картина 3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-936720" y="1409760"/>
            <a:ext cx="10080720" cy="1146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68360" y="13716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и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84" name="Правоъгълник 5"/>
          <p:cNvSpPr/>
          <p:nvPr/>
        </p:nvSpPr>
        <p:spPr>
          <a:xfrm>
            <a:off x="431640" y="1371600"/>
            <a:ext cx="82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 и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авоъгълник 6"/>
          <p:cNvSpPr/>
          <p:nvPr/>
        </p:nvSpPr>
        <p:spPr>
          <a:xfrm>
            <a:off x="1808280" y="2682720"/>
            <a:ext cx="5527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85840" indent="-28584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«Институционално развит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по програ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ституционално развитие на РИОСВ и обучение на хората, управляващи територията на поддържания резерв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89" name="Правоъгълник 5"/>
          <p:cNvSpPr/>
          <p:nvPr/>
        </p:nvSpPr>
        <p:spPr>
          <a:xfrm>
            <a:off x="235080" y="1547640"/>
            <a:ext cx="8915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ТИВНИ ЗАДАЧИ И ПРЕДПИСАНИЯ ЗА ОПАЗВАНЕ И ПОЛЗВАН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зготвянето на ПУ са определени оперативни задачи и е изготвен работен план за три години с включени проекти и задачи, етапи,предвидени за първата година и разходи за първата год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4"/>
          <a:stretch/>
        </p:blipFill>
        <p:spPr>
          <a:xfrm>
            <a:off x="395280" y="3035160"/>
            <a:ext cx="3387600" cy="2265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5"/>
          <a:stretch/>
        </p:blipFill>
        <p:spPr>
          <a:xfrm>
            <a:off x="5508720" y="3032280"/>
            <a:ext cx="3166920" cy="252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6"/>
          <a:stretch/>
        </p:blipFill>
        <p:spPr>
          <a:xfrm>
            <a:off x="2984400" y="3454560"/>
            <a:ext cx="3175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196" name="Title 2"/>
          <p:cNvSpPr/>
          <p:nvPr/>
        </p:nvSpPr>
        <p:spPr>
          <a:xfrm>
            <a:off x="984240" y="2492280"/>
            <a:ext cx="7175520" cy="1793880"/>
          </a:xfrm>
          <a:prstGeom prst="rect">
            <a:avLst/>
          </a:prstGeom>
          <a:gradFill rotWithShape="0">
            <a:gsLst>
              <a:gs pos="0">
                <a:srgbClr val="f6ffff"/>
              </a:gs>
              <a:gs pos="100000">
                <a:srgbClr val="e4feff"/>
              </a:gs>
            </a:gsLst>
            <a:lin ang="54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92d05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62" name="Текстово поле 5"/>
          <p:cNvSpPr/>
          <p:nvPr/>
        </p:nvSpPr>
        <p:spPr>
          <a:xfrm>
            <a:off x="1484280" y="145404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ahoma"/>
              </a:rPr>
              <a:t>ДОСТЪП ДО ПРОЕКТА НА 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оъгълник 6"/>
          <p:cNvSpPr/>
          <p:nvPr/>
        </p:nvSpPr>
        <p:spPr>
          <a:xfrm>
            <a:off x="900000" y="1927080"/>
            <a:ext cx="71121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ъгласно изсикванията на Наредбата за разработване на планове за управление на защитени територии, за ПУ е осигурен едномесечен срок за обществен достъп преди общественото обсъжда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пие от ПУ е осигурено за обществен достъп в Община Созопол; РИОСВ-Бургас и офиса на Консорциу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 201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нлайн достъп е осигурен на интернет страниците на Портал за обществени консултации; РИОСВ-Бургас и водещия партньор в консорц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ява за общественото обсъждане на ПУ, до заинтересованата общественост, е поставена на видно място в Община Созопол. Обявата е публикувана и в 2 вестника. Покани за обсъждането са изпратени до  10 ведомства и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ЕНИ ДО МОМЕНТА ПИСМЕНИ СТАНОВИЩА НЯМА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0" y="57135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67" name="Текстово поле 5"/>
          <p:cNvSpPr/>
          <p:nvPr/>
        </p:nvSpPr>
        <p:spPr>
          <a:xfrm>
            <a:off x="1403280" y="144144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ahoma"/>
              </a:rPr>
              <a:t>СТРУКТУРА НА 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авоъгълник 6"/>
          <p:cNvSpPr/>
          <p:nvPr/>
        </p:nvSpPr>
        <p:spPr>
          <a:xfrm>
            <a:off x="755640" y="1989000"/>
            <a:ext cx="74883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анът за управление на поддържан резерват “Пясъчната лилия“ е изготвен в съответствие 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левантните нормативни документи (ЗЗТ; НРПУЗ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анието за изготвяне на план за управление, утвърдено от Министъра на ОСВ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 за възлаг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анът за управление е разработен от колектив от високо квалифицирани експерти в съответните области, вкл. експерти биолози и ботаници. Всички експерти са с богат опит в областта, в която работят, и изготвянето на ПУ на защитени територии, и са без конфликт на интере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авоъгълник 7"/>
          <p:cNvSpPr/>
          <p:nvPr/>
        </p:nvSpPr>
        <p:spPr>
          <a:xfrm>
            <a:off x="755640" y="2425680"/>
            <a:ext cx="31212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Tahoma"/>
              </a:rPr>
              <a:t>Процес на изготвяне на ПУ – “стъпка по стъпк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Текстово поле 8"/>
          <p:cNvSpPr/>
          <p:nvPr/>
        </p:nvSpPr>
        <p:spPr>
          <a:xfrm>
            <a:off x="525600" y="364500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ahoma"/>
              </a:rPr>
              <a:t>Екипът, изготвил ПУ, се състои от 40 високо квалифицирани експер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4572000" y="-28440"/>
            <a:ext cx="52624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авоъгълник 5"/>
          <p:cNvSpPr/>
          <p:nvPr/>
        </p:nvSpPr>
        <p:spPr>
          <a:xfrm>
            <a:off x="171360" y="4762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Диаграма 6" descr=""/>
          <p:cNvPicPr/>
          <p:nvPr/>
        </p:nvPicPr>
        <p:blipFill>
          <a:blip r:embed="rId2"/>
          <a:stretch/>
        </p:blipFill>
        <p:spPr>
          <a:xfrm>
            <a:off x="2919240" y="-6480"/>
            <a:ext cx="6274080" cy="6894720"/>
          </a:xfrm>
          <a:prstGeom prst="rect">
            <a:avLst/>
          </a:prstGeom>
          <a:ln w="0">
            <a:noFill/>
          </a:ln>
        </p:spPr>
      </p:pic>
      <p:sp>
        <p:nvSpPr>
          <p:cNvPr id="75" name="Правоъгълник 8"/>
          <p:cNvSpPr/>
          <p:nvPr/>
        </p:nvSpPr>
        <p:spPr>
          <a:xfrm>
            <a:off x="9360" y="2781360"/>
            <a:ext cx="28609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План-график за действие и организация на изпълнение н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авоъгълник 5"/>
          <p:cNvSpPr/>
          <p:nvPr/>
        </p:nvSpPr>
        <p:spPr>
          <a:xfrm>
            <a:off x="-282600" y="549360"/>
            <a:ext cx="31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79" name="Правоъгълник 5"/>
          <p:cNvSpPr/>
          <p:nvPr/>
        </p:nvSpPr>
        <p:spPr>
          <a:xfrm>
            <a:off x="-181080" y="1378080"/>
            <a:ext cx="85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ово поле 6"/>
          <p:cNvSpPr/>
          <p:nvPr/>
        </p:nvSpPr>
        <p:spPr>
          <a:xfrm>
            <a:off x="250920" y="2112840"/>
            <a:ext cx="4681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 “Пясъчната лилия” е обявен с цел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пазване единственото находище на пясъчна лил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 нашата стр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 “Пясъчната лилия” попада на територията на област Бургас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а Созопол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землището на гр. Созопо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гласно Заповед № 3538 от 13.11.1973 г. на МГОПС площта на ПР “Пясъчната лилия” 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0,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4"/>
          <a:stretch/>
        </p:blipFill>
        <p:spPr>
          <a:xfrm>
            <a:off x="4788000" y="2128680"/>
            <a:ext cx="4232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476360" y="1440"/>
            <a:ext cx="66247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8920" y="248760"/>
            <a:ext cx="6265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Verdana"/>
              </a:rPr>
              <a:t>Участници в общественото обсъжд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Картина 3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1373040"/>
          </a:xfrm>
          <a:prstGeom prst="rect">
            <a:avLst/>
          </a:prstGeom>
          <a:ln w="0">
            <a:noFill/>
          </a:ln>
        </p:spPr>
      </p:pic>
      <p:sp>
        <p:nvSpPr>
          <p:cNvPr id="86" name="Текстово поле 6"/>
          <p:cNvSpPr/>
          <p:nvPr/>
        </p:nvSpPr>
        <p:spPr>
          <a:xfrm>
            <a:off x="395280" y="1484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авоъгълник 5"/>
          <p:cNvSpPr/>
          <p:nvPr/>
        </p:nvSpPr>
        <p:spPr>
          <a:xfrm>
            <a:off x="-22320" y="1406520"/>
            <a:ext cx="86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 indent="44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 1: ОПИСАНИЕ И ОЦЕНКА НА ЗАЩИТЕНАТА ТЕ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0" y="5699160"/>
            <a:ext cx="914400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Правоъгълник 7"/>
          <p:cNvSpPr/>
          <p:nvPr/>
        </p:nvSpPr>
        <p:spPr>
          <a:xfrm>
            <a:off x="250920" y="2070000"/>
            <a:ext cx="5446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рамките на изготвяне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Част 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от ПУ е направ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биране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а информац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ЗТ, вкл.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ова и административна принадлежн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конов стату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бственост и управл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др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биотичните фактори на средата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лимат; геология и геоморфология; почв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Биологична характеристика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екосистеми и биотоп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характеристика на растителния вид пясъчна лилия; флора (мъхообразни, лишеи, висши растения, лечебни растения); фауна (безгръбначни животни, влечуги, птици, бозайниц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ултурна и социално-икономическа характеристи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4"/>
          <a:stretch/>
        </p:blipFill>
        <p:spPr>
          <a:xfrm>
            <a:off x="5800680" y="2319480"/>
            <a:ext cx="3103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Elena Georgieva</cp:lastModifiedBy>
  <cp:lastPrinted>2015-03-26T09:12:13Z</cp:lastPrinted>
  <dcterms:modified xsi:type="dcterms:W3CDTF">2015-03-29T09:50:12Z</dcterms:modified>
  <cp:revision>380</cp:revision>
  <dc:subject/>
  <dc:title>PRESENTATION  NAME</dc:title>
</cp:coreProperties>
</file>