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image5.wmf" ContentType="image/x-wmf"/>
  <Override PartName="/ppt/media/image7.jpeg" ContentType="image/jpeg"/>
  <Override PartName="/ppt/media/image6.wmf" ContentType="image/x-wmf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  <p:sldId id="27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slide" Target="slides/slide1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3F30-1835-4350-9A65-BDA7B0D82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F3F2-66B4-4395-842F-D93C5E1D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625AA-554A-492B-9792-91D56E62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B2384-EB3A-4BB9-868B-B85F7D05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3C54C-AA9C-46F1-B3E6-8162A535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DD49D-0034-44B8-B217-3D1AA4DF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F3A3B-F104-428C-A7F8-9248DE80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24C02-679B-47EF-B581-97A6B31F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B933F-F866-4850-AAB2-321648A0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CF5DB-410F-4262-B113-FF00C3E50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C2376-4379-4619-A9D1-58B6A2619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2A266-131F-49F5-98F9-9D6E8B815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91DB-9476-4658-AE47-E62FED3AD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DA99E-3C71-45D8-B27E-122F9A26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B928A-79A0-49FB-B5ED-33C0A04E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7254B-DA2C-4519-988A-0D1EC620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DDA9C-72CF-4054-BFC4-B0029E17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7C7CB-CDB4-49DE-85A4-0110863D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54356-82BF-4185-85E3-150EC87B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58F0C-A85F-4B30-AF5D-2104E812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C9277-DA4B-4FB4-AF38-7F1E84B9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34CC1-512A-4478-8A34-6C6DAE67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935C8-D4FB-4492-A945-A9C3DD5C2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1170-0F50-4F23-A5DB-F008FECEB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77BDA-9FB3-4975-BAC2-E155F06A5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4C5E80-D22C-42EB-8972-C05974D4D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7D2B0E-FBD1-4E52-82D1-745F233C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52C001-2777-4C0C-B152-9F2F9306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B70744-5402-4886-A4F2-D95BDEEB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AB487D-3466-424B-B5CB-AAF643FB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9B2606-303B-4D9E-AB88-1C29E9A8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61995D-6849-4DB4-A0DB-A01E6E79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4E5609-008F-4C0E-A82E-A176F354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45D2A6-D646-41E4-9505-D89BD5DA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9491D3-C091-449A-8328-72294946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D5FFB0-4153-4589-B9D4-0AB30F13E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6323D-0E38-448F-AC0E-AB377F9CE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69C547-0B53-4039-884E-898DE397C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5EE298-595B-4CB3-AD9F-429BFCCB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854B1E-FB35-44C6-A451-78BB90318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E5C371-4DFC-4609-AB03-DDA3B503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B1DA4F-1EA6-4210-A1A6-08E61AF6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A1442D-F29E-4AE5-8F64-85A6EA3B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002E51-ACFB-4193-8D41-9A6239ED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5E5590-25D7-4CC5-BBBB-C10D1C47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7BE067-8377-4D29-9A12-4F466227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E42906-75CD-473C-95F5-3601D8B4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BD3172-F180-46B8-9C63-8F299A593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89B44B-26D1-43D6-BD4F-CE8D57A95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42802-46E9-4F10-A7D3-96A58790C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6B29F-E81D-4181-9930-CE987F78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7F614-F646-422D-91C7-65B3840E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5BDC6-3954-453C-91CB-52B86224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5F58B-59F5-4EE8-87F7-63D60655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3C42C4-E6F8-48B6-B595-183A4BC7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4CDC7-2505-486A-BEAB-C96FCDDA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524B6-F65E-49F1-BDD7-4FEDDA17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1762DE-F92C-46CA-BA83-EF18C8F6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644925-8240-494C-8F27-5E573D77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77D6E-6C18-4883-A590-EFD001804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C0AC5-95FB-4394-A1F1-EF98C02E1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8772D4-330F-4A64-BBB4-71C1AD0A8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10F8B6-DE04-445F-9568-F55BB30D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4148A8-AD64-4620-A2CE-A118C1D9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EA4E46-7C42-4008-AC8B-A0D0406F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D636AD-C46F-4257-9473-DB94AD8C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594E8D-A729-4A8B-9723-47B63850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C1A728-8AFF-43DD-B47F-0EC123A4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24A645-5AC6-4C26-BBB4-463E6803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75151D-223A-4AEF-AF61-9EA84B85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70020D-A3AF-4173-BA92-3A9707AA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F1EAAA-72DB-40A0-98BC-7F4E3EBA0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BD0330-20D0-4400-A4BB-F4B6DC4B7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8FB360-99FB-4544-BF42-54335D787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2383D6-8479-48E6-8835-F65BB281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93F9B2-0C69-41B9-AD0E-1CFC21C6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CA583E-31F7-4917-9923-A884CC7C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0496A5-48D1-44A7-BCB9-1954D4BE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BAF440-F7AD-4376-86E6-9FF157AA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855D8F-0882-468A-BD9C-4AA329E4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B2D6A0-2B90-4A66-9F4C-B8359A4C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7CA868-66C7-4999-828A-19281010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CCFF2C-AF9A-4754-99DE-87B6F733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7DB902-2FDC-417D-9DD8-B86D6CD10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94EDE5-E09E-4F1C-88D3-544882178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02CEDD-6AE5-4A93-953E-2416F6556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7E23F7-12E6-443F-A332-25041A38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45C955-0A46-4F59-9547-B2077D21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D89EC4-567D-4DEB-B7CF-F2E3BCD1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7AC0C2-B64D-4E92-803D-C5A899FF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1207AD-1941-4DEF-A341-7855105C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4822C9-19F4-4D8A-A3D6-AD2B6A99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DB197D-F440-4D93-AB59-A2608E17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03D6C3-46F0-4D56-9AA8-6236CCBB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1F951E-311F-43C6-87B7-D03BD110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DC6E50-3FB1-494B-9E8C-2E822B814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C41EE0-5363-437F-83BC-1FF328508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026FB7-526F-4EC7-AAA1-80E946EC6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7EDA7C-7203-41B7-A324-D76718A5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030383-1014-40A7-B663-FB01DE6E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EA00FA-2CBD-4BEC-A7A4-481EA371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180100-FCCF-4E5B-911B-7BD29B62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E3C9C5-65B8-4B85-88A9-715C30A1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1A6746-9F05-472A-B317-41DC623A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84BA-BF5F-4051-99EE-1EC3988E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12EE9F-A062-4567-AC17-1997BA62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280DD2-1358-41D3-B166-9AA06120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7DCE99-AC8C-473A-B9C6-D0AE12C3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CF6A83-687B-4D31-B523-A1E831452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44A000-920C-460D-9344-7D338BE77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6198D7-340F-46EA-B416-506DC6A22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E6A126-3552-4486-8660-4437B075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E1F5E9-28AB-4EC0-A689-0E1C03DD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FE94D6-CA8C-45A5-985E-CC7B2C88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BAABA4-ECC1-40F8-A622-E402A904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B9644C-87BF-482E-B6F6-A4CE630A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88B2B0-5F7F-4541-9ABB-785C2447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A03AEB-3026-4AFB-80A9-2972D1C9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724149-AC6D-4A41-A389-C03DE375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810D7A-548C-42E6-A017-9EF324B5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DB2A1D-258B-4B08-B71E-2E020C1C0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F6BEEE-7A4F-4C06-8FE7-49BD050FC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EF95B3-F83C-4BD9-9278-E0750AF8B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88398D-F77C-4A98-AFA0-4C0BB666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80D2D5-E13B-42F1-A867-9822FDC7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365942-0140-4E68-81B9-E9DC602E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4F6324-5320-4FBB-A9D8-C21C04C9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9A183B-EDD4-4E16-BAFB-29BB6003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EF3785-0569-4D72-A825-26214AEA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D7093A-DB55-44F1-9000-A0B2279A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C0EE09-4921-47BB-91D6-8B36A65A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73BA53-0DDF-4FBE-BCE6-40E2D6AE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CE9D7D-26AD-4697-9490-BABAB7F41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A7650F-3A81-41A5-8E57-FCA15EE7E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632268-E082-45C9-B2E1-CCBF8AD6C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53BBEA-86AE-47A3-B494-098CB821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361A0C-127C-4FDC-8AC4-C1A85269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87E7A2-BB4A-48D6-83C3-46646450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52D275-FEBD-43CF-9C9B-41277640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B805D2-5E9F-4D29-8057-2F228F54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AB38DD-BBF6-4C4C-86BD-A02219C7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B09FF7-EE1A-4E65-9F16-73F0D2AC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20C856-C841-4976-B000-F2F57FEF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899323-3115-40CF-8205-17611A41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DE21D8-9040-47DA-8D9B-54514DE22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307777-8EDA-452A-991A-8E159FC2D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882AA0-C2B3-4ADE-A43B-EE28474F8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10F58F-53B9-479B-8FF2-D2FD223F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BCC330-3CBE-4FD4-925A-C3ED847C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90E8A1-9859-42BF-A340-57A71D34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2C5589-F10B-4828-B362-281075D2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683DA8-EC46-4CE8-AED4-CE97AC7E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9AF2FB-986C-42D4-B4BD-E24A0000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11EA93-E232-4055-9248-CAE15522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85C1F6-3702-4D31-A502-2CF16478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F48FF5-A1F9-466E-BD1F-6CAD022F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BC7CF0-6BF7-472F-B21E-237A507E0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E89628-860D-4597-AB14-6F7F41339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B64697-5513-46BC-99E2-34ECDCD47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27F61D-C6BF-411A-8342-489AF0E7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EE423B-A8A8-4165-B5D0-78647DF9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83A1D4-37A5-4811-9F22-7CC6ADFB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55D6AD-5093-4B9C-AA3B-6825D08C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5DA191-B518-425A-9F24-0B30D834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322C9A-B3A6-4C33-BAC7-413DEE19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AF3A33-6C3B-491F-BFD3-5B884F71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EA7B17-96C7-4BEB-899D-E0EB7DA9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FEBB0A-9EFD-4C6A-B67E-1C5AF3FA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CBDC8C-BE67-47F3-8675-653C70D86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4BDEBD-EDF4-4418-B7B8-C3C6CCB8F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C4B0-FBC4-4DC9-9BD0-ED226EE1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D036D-82D4-43C8-BCC9-BC4DE2654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2B62-1D5F-4461-9568-17B027A5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8DF7-9255-48C9-B14B-E0B1CEEC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DDF2-9CF4-437F-B924-C95236EF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5FB1-FD9C-4B75-B5EC-E3C79CAD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2EC0-37B9-41D9-9986-8EE37CA4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279A-F1D3-4FCD-A559-03568F23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8D28-33EA-43C0-A5B1-FB7E51B9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B9EE-30CB-45D7-915C-A9A58B52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0A29-B1F6-43B5-A7D5-72FA8169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00DDD-34D2-45A6-B90C-D6CE7C40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4AE3-3EFF-4861-96AC-BE0D0CF87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CDFE-0982-48C8-89AA-E346E2F45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E2654-70C0-4430-AE3E-4B74CC003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A47E-8462-4351-B560-179251CA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B1272-88BF-4CD1-878A-54EA2CC8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FE52B-8EE9-490C-808F-0F9D703F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79F67-0549-4079-8140-477A9441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BDA29-188E-47B9-A259-A1E57F22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4968E-467C-4D97-8F10-09B06742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5B96E-92C0-44E0-8AC6-E5DA07E8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7B0B7-39A2-4D9D-923A-C792185A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C7A37-F437-4EC7-B533-6FCC8DFA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D2617-9130-4934-BDEE-4CEEEF72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74869-128A-430C-8851-69868E204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9C40-001F-493B-B0D6-E55D9497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14784-BF98-4E4A-82CE-8D3C240D4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E89BD-334C-4293-9092-365829456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B5E76-57D8-47A8-98F8-D7341102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8860E-6CBE-4C9B-86EB-BFF322DB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886EE-28A4-41A4-9A63-D8B2DBC1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8DD94-7C96-4D2E-99D7-66C0ACA3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F713B-7E99-474F-B1E4-3C7DD1CC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E02D6-A812-4A6C-933A-C4E4D00C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832D9-C923-49FB-8ADA-2240FEA6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B18A3-C163-42A3-A3FA-BF2282F7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D93E-E6C9-4DCD-85A3-D9231460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7B19D-908A-4403-852D-66CADC34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F8134-48E4-4239-BA61-EF2B43E7A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719F9-D1C2-4789-9400-7F6245D44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35C86-0AC1-4B49-B626-926C1FBFE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B86AD-568E-4C4F-A259-A70EDF36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33DCE-AA39-4784-8D18-1CEF4BE8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9E4C3-040F-4A98-99CE-74CAD33B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5CB09-0287-4657-ACAF-FF91CF0D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A5DC9-4726-49B7-A3D1-AE3DF3F2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E15C6-5505-49C6-978D-DF7921D7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C150-7F88-4CFD-81C7-21D9B280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4F0AE-3BA7-4666-9914-2352D05D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24220-C129-4F82-9365-437007EF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E001E-992D-47EF-838C-3F345589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D6F11-D5B0-43E7-9115-CD0BE796A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7A425-4B31-4EDA-80EB-4D7128C2F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DFD37-9A23-4D86-9927-6C4A0F207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9D523-3C72-470F-BA47-E7001FAD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04A50-0F82-40C1-823E-A72A3AA6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1B33D-D9E4-408A-ACEF-4F87396F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056FD-FA57-4226-8ED8-BA3AECFC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82DD-7704-4C58-A3BE-77D75F6A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A0608-9B6B-4F9C-8AAC-41C50DBF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C2EA1-FB51-4923-952E-D812C050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36A80-8534-4CD8-BB21-2988C536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B2BB5-317F-4D21-811D-8DB3CB97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6A199-6C74-4718-A3C7-92C2EA6F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8324D-794A-4423-9E92-37A71FDB1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F81B6-9815-445A-8D6E-CB520827C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3A035-D799-4B0D-82DE-4CB89B687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ABA9F-49C0-4993-A6F1-FBA06007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A3870-7D33-4B3B-AADA-29B78C9B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7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17.xml"/><Relationship Id="rId7" Type="http://schemas.openxmlformats.org/officeDocument/2006/relationships/slideLayout" Target="../slideLayouts/slideLayout218.xml"/><Relationship Id="rId8" Type="http://schemas.openxmlformats.org/officeDocument/2006/relationships/slideLayout" Target="../slideLayouts/slideLayout219.xml"/><Relationship Id="rId9" Type="http://schemas.openxmlformats.org/officeDocument/2006/relationships/slideLayout" Target="../slideLayouts/slideLayout220.xml"/><Relationship Id="rId10" Type="http://schemas.openxmlformats.org/officeDocument/2006/relationships/slideLayout" Target="../slideLayouts/slideLayout221.xml"/><Relationship Id="rId11" Type="http://schemas.openxmlformats.org/officeDocument/2006/relationships/slideLayout" Target="../slideLayouts/slideLayout222.xml"/><Relationship Id="rId12" Type="http://schemas.openxmlformats.org/officeDocument/2006/relationships/slideLayout" Target="../slideLayouts/slideLayout223.xml"/><Relationship Id="rId13" Type="http://schemas.openxmlformats.org/officeDocument/2006/relationships/slideLayout" Target="../slideLayouts/slideLayout224.xml"/><Relationship Id="rId14" Type="http://schemas.openxmlformats.org/officeDocument/2006/relationships/slideLayout" Target="../slideLayouts/slideLayout225.xml"/><Relationship Id="rId15" Type="http://schemas.openxmlformats.org/officeDocument/2006/relationships/slideLayout" Target="../slideLayouts/slideLayout226.xml"/><Relationship Id="rId16" Type="http://schemas.openxmlformats.org/officeDocument/2006/relationships/slideLayout" Target="../slideLayouts/slideLayout227.xml"/><Relationship Id="rId17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3.xml"/><Relationship Id="rId7" Type="http://schemas.openxmlformats.org/officeDocument/2006/relationships/slideLayout" Target="../slideLayouts/slideLayout254.xml"/><Relationship Id="rId8" Type="http://schemas.openxmlformats.org/officeDocument/2006/relationships/slideLayout" Target="../slideLayouts/slideLayout255.xml"/><Relationship Id="rId9" Type="http://schemas.openxmlformats.org/officeDocument/2006/relationships/slideLayout" Target="../slideLayouts/slideLayout256.xml"/><Relationship Id="rId10" Type="http://schemas.openxmlformats.org/officeDocument/2006/relationships/slideLayout" Target="../slideLayouts/slideLayout257.xml"/><Relationship Id="rId11" Type="http://schemas.openxmlformats.org/officeDocument/2006/relationships/slideLayout" Target="../slideLayouts/slideLayout258.xml"/><Relationship Id="rId12" Type="http://schemas.openxmlformats.org/officeDocument/2006/relationships/slideLayout" Target="../slideLayouts/slideLayout259.xml"/><Relationship Id="rId13" Type="http://schemas.openxmlformats.org/officeDocument/2006/relationships/slideLayout" Target="../slideLayouts/slideLayout260.xml"/><Relationship Id="rId14" Type="http://schemas.openxmlformats.org/officeDocument/2006/relationships/slideLayout" Target="../slideLayouts/slideLayout261.xml"/><Relationship Id="rId15" Type="http://schemas.openxmlformats.org/officeDocument/2006/relationships/slideLayout" Target="../slideLayouts/slideLayout262.xml"/><Relationship Id="rId16" Type="http://schemas.openxmlformats.org/officeDocument/2006/relationships/slideLayout" Target="../slideLayouts/slideLayout263.xml"/><Relationship Id="rId17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4" descr=""/>
          <p:cNvPicPr/>
          <p:nvPr/>
        </p:nvPicPr>
        <p:blipFill>
          <a:blip r:embed="rId2"/>
          <a:stretch/>
        </p:blipFill>
        <p:spPr>
          <a:xfrm>
            <a:off x="279360" y="0"/>
            <a:ext cx="8572680" cy="6845400"/>
          </a:xfrm>
          <a:prstGeom prst="rect">
            <a:avLst/>
          </a:prstGeom>
          <a:ln w="0">
            <a:noFill/>
          </a:ln>
        </p:spPr>
      </p:pic>
      <p:pic>
        <p:nvPicPr>
          <p:cNvPr id="1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0E0E-ECB7-4B1B-9ED8-D28A15779325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EEA Logo"/>
          <p:cNvPicPr/>
          <p:nvPr/>
        </p:nvPicPr>
        <p:blipFill>
          <a:blip r:embed="rId4"/>
          <a:stretch/>
        </p:blipFill>
        <p:spPr>
          <a:xfrm>
            <a:off x="250920" y="26028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gerb"/>
          <p:cNvPicPr/>
          <p:nvPr/>
        </p:nvPicPr>
        <p:blipFill>
          <a:blip r:embed="rId5"/>
          <a:stretch/>
        </p:blipFill>
        <p:spPr>
          <a:xfrm>
            <a:off x="1619280" y="38088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Image 8" descr=""/>
          <p:cNvPicPr/>
          <p:nvPr/>
        </p:nvPicPr>
        <p:blipFill>
          <a:blip r:embed="rId2"/>
          <a:stretch/>
        </p:blipFill>
        <p:spPr>
          <a:xfrm>
            <a:off x="291960" y="139680"/>
            <a:ext cx="8547120" cy="6578640"/>
          </a:xfrm>
          <a:prstGeom prst="rect">
            <a:avLst/>
          </a:prstGeom>
          <a:ln w="0">
            <a:noFill/>
          </a:ln>
        </p:spPr>
      </p:pic>
      <p:pic>
        <p:nvPicPr>
          <p:cNvPr id="382" name="Image 11" descr=""/>
          <p:cNvPicPr/>
          <p:nvPr/>
        </p:nvPicPr>
        <p:blipFill>
          <a:blip r:embed="rId3"/>
          <a:stretch/>
        </p:blipFill>
        <p:spPr>
          <a:xfrm>
            <a:off x="-404640" y="-1000080"/>
            <a:ext cx="9956520" cy="254952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2AE6-B855-479E-83B2-64C61AE45D68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Picture 8" descr="EEA Logo"/>
          <p:cNvPicPr/>
          <p:nvPr/>
        </p:nvPicPr>
        <p:blipFill>
          <a:blip r:embed="rId4"/>
          <a:stretch/>
        </p:blipFill>
        <p:spPr>
          <a:xfrm>
            <a:off x="250920" y="-27792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gerb"/>
          <p:cNvPicPr/>
          <p:nvPr/>
        </p:nvPicPr>
        <p:blipFill>
          <a:blip r:embed="rId5"/>
          <a:stretch/>
        </p:blipFill>
        <p:spPr>
          <a:xfrm>
            <a:off x="1619280" y="-15732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Image 8" descr=""/>
          <p:cNvPicPr/>
          <p:nvPr/>
        </p:nvPicPr>
        <p:blipFill>
          <a:blip r:embed="rId2"/>
          <a:stretch/>
        </p:blipFill>
        <p:spPr>
          <a:xfrm>
            <a:off x="291960" y="139680"/>
            <a:ext cx="8547120" cy="6578640"/>
          </a:xfrm>
          <a:prstGeom prst="rect">
            <a:avLst/>
          </a:prstGeom>
          <a:ln w="0">
            <a:noFill/>
          </a:ln>
        </p:spPr>
      </p:pic>
      <p:pic>
        <p:nvPicPr>
          <p:cNvPr id="425" name="Image 11" descr=""/>
          <p:cNvPicPr/>
          <p:nvPr/>
        </p:nvPicPr>
        <p:blipFill>
          <a:blip r:embed="rId3"/>
          <a:stretch/>
        </p:blipFill>
        <p:spPr>
          <a:xfrm>
            <a:off x="-404640" y="-1000080"/>
            <a:ext cx="9956520" cy="254952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A445-19E4-459F-B2C3-F1267F208BBC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Picture 8" descr="EEA Logo"/>
          <p:cNvPicPr/>
          <p:nvPr/>
        </p:nvPicPr>
        <p:blipFill>
          <a:blip r:embed="rId4"/>
          <a:stretch/>
        </p:blipFill>
        <p:spPr>
          <a:xfrm>
            <a:off x="250920" y="-171360"/>
            <a:ext cx="1152360" cy="9126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9" descr="gerb"/>
          <p:cNvPicPr/>
          <p:nvPr/>
        </p:nvPicPr>
        <p:blipFill>
          <a:blip r:embed="rId5"/>
          <a:stretch/>
        </p:blipFill>
        <p:spPr>
          <a:xfrm>
            <a:off x="1619280" y="-50760"/>
            <a:ext cx="1008000" cy="84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Image 8" descr=""/>
          <p:cNvPicPr/>
          <p:nvPr/>
        </p:nvPicPr>
        <p:blipFill>
          <a:blip r:embed="rId2"/>
          <a:stretch/>
        </p:blipFill>
        <p:spPr>
          <a:xfrm>
            <a:off x="291960" y="139680"/>
            <a:ext cx="8547120" cy="6578640"/>
          </a:xfrm>
          <a:prstGeom prst="rect">
            <a:avLst/>
          </a:prstGeom>
          <a:ln w="0">
            <a:noFill/>
          </a:ln>
        </p:spPr>
      </p:pic>
      <p:pic>
        <p:nvPicPr>
          <p:cNvPr id="468" name="Image 11" descr=""/>
          <p:cNvPicPr/>
          <p:nvPr/>
        </p:nvPicPr>
        <p:blipFill>
          <a:blip r:embed="rId3"/>
          <a:stretch/>
        </p:blipFill>
        <p:spPr>
          <a:xfrm>
            <a:off x="-404640" y="-1000080"/>
            <a:ext cx="9956520" cy="254952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89F7-9AC3-41AF-BBFE-747F4B09C3EA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Picture 8" descr="EEA Logo"/>
          <p:cNvPicPr/>
          <p:nvPr/>
        </p:nvPicPr>
        <p:blipFill>
          <a:blip r:embed="rId4"/>
          <a:stretch/>
        </p:blipFill>
        <p:spPr>
          <a:xfrm>
            <a:off x="250920" y="-24300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9" descr="gerb"/>
          <p:cNvPicPr/>
          <p:nvPr/>
        </p:nvPicPr>
        <p:blipFill>
          <a:blip r:embed="rId5"/>
          <a:stretch/>
        </p:blipFill>
        <p:spPr>
          <a:xfrm>
            <a:off x="1619280" y="-12240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Image 4" descr=""/>
          <p:cNvPicPr/>
          <p:nvPr/>
        </p:nvPicPr>
        <p:blipFill>
          <a:blip r:embed="rId2"/>
          <a:stretch/>
        </p:blipFill>
        <p:spPr>
          <a:xfrm>
            <a:off x="279360" y="0"/>
            <a:ext cx="8572680" cy="6845400"/>
          </a:xfrm>
          <a:prstGeom prst="rect">
            <a:avLst/>
          </a:prstGeom>
          <a:ln w="0">
            <a:noFill/>
          </a:ln>
        </p:spPr>
      </p:pic>
      <p:pic>
        <p:nvPicPr>
          <p:cNvPr id="511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DC1F-6B2B-4B5E-87AD-FC0C48F1C93E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8" descr="EEA Logo"/>
          <p:cNvPicPr/>
          <p:nvPr/>
        </p:nvPicPr>
        <p:blipFill>
          <a:blip r:embed="rId4"/>
          <a:stretch/>
        </p:blipFill>
        <p:spPr>
          <a:xfrm>
            <a:off x="250920" y="26028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9" descr="gerb"/>
          <p:cNvPicPr/>
          <p:nvPr/>
        </p:nvPicPr>
        <p:blipFill>
          <a:blip r:embed="rId5"/>
          <a:stretch/>
        </p:blipFill>
        <p:spPr>
          <a:xfrm>
            <a:off x="1619280" y="38088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Image 4" descr=""/>
          <p:cNvPicPr/>
          <p:nvPr/>
        </p:nvPicPr>
        <p:blipFill>
          <a:blip r:embed="rId2"/>
          <a:stretch/>
        </p:blipFill>
        <p:spPr>
          <a:xfrm>
            <a:off x="279360" y="0"/>
            <a:ext cx="8572680" cy="6845400"/>
          </a:xfrm>
          <a:prstGeom prst="rect">
            <a:avLst/>
          </a:prstGeom>
          <a:ln w="0">
            <a:noFill/>
          </a:ln>
        </p:spPr>
      </p:pic>
      <p:pic>
        <p:nvPicPr>
          <p:cNvPr id="554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pic>
        <p:nvPicPr>
          <p:cNvPr id="555" name="Image 5" descr="LogosEEAgrantsNORWAYgrants_CMJN.emf"/>
          <p:cNvPicPr/>
          <p:nvPr/>
        </p:nvPicPr>
        <p:blipFill>
          <a:blip r:embed="rId4"/>
          <a:stretch/>
        </p:blipFill>
        <p:spPr>
          <a:xfrm>
            <a:off x="735120" y="447840"/>
            <a:ext cx="2496960" cy="720720"/>
          </a:xfrm>
          <a:prstGeom prst="rect">
            <a:avLst/>
          </a:prstGeom>
          <a:ln w="0">
            <a:noFill/>
          </a:ln>
        </p:spPr>
      </p:pic>
      <p:sp>
        <p:nvSpPr>
          <p:cNvPr id="556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06DFD-80C4-4BAD-8580-37D44B7EECD6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Image 4" descr=""/>
          <p:cNvPicPr/>
          <p:nvPr/>
        </p:nvPicPr>
        <p:blipFill>
          <a:blip r:embed="rId2"/>
          <a:stretch/>
        </p:blipFill>
        <p:spPr>
          <a:xfrm>
            <a:off x="279360" y="0"/>
            <a:ext cx="8572680" cy="6845400"/>
          </a:xfrm>
          <a:prstGeom prst="rect">
            <a:avLst/>
          </a:prstGeom>
          <a:ln w="0">
            <a:noFill/>
          </a:ln>
        </p:spPr>
      </p:pic>
      <p:pic>
        <p:nvPicPr>
          <p:cNvPr id="596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pic>
        <p:nvPicPr>
          <p:cNvPr id="597" name="Image 5" descr="LogosEEAgrantsNORWAYgrants_CMJN.emf"/>
          <p:cNvPicPr/>
          <p:nvPr/>
        </p:nvPicPr>
        <p:blipFill>
          <a:blip r:embed="rId4"/>
          <a:stretch/>
        </p:blipFill>
        <p:spPr>
          <a:xfrm>
            <a:off x="735120" y="447840"/>
            <a:ext cx="2496960" cy="720720"/>
          </a:xfrm>
          <a:prstGeom prst="rect">
            <a:avLst/>
          </a:prstGeom>
          <a:ln w="0">
            <a:noFill/>
          </a:ln>
        </p:spPr>
      </p:pic>
      <p:sp>
        <p:nvSpPr>
          <p:cNvPr id="598" name="PlaceHolder 1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B91F-1158-4457-BF43-25771A1FF3CA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Image 4" descr=""/>
          <p:cNvPicPr/>
          <p:nvPr/>
        </p:nvPicPr>
        <p:blipFill>
          <a:blip r:embed="rId2"/>
          <a:stretch/>
        </p:blipFill>
        <p:spPr>
          <a:xfrm>
            <a:off x="279360" y="0"/>
            <a:ext cx="8572680" cy="6845400"/>
          </a:xfrm>
          <a:prstGeom prst="rect">
            <a:avLst/>
          </a:prstGeom>
          <a:ln w="0">
            <a:noFill/>
          </a:ln>
        </p:spPr>
      </p:pic>
      <p:pic>
        <p:nvPicPr>
          <p:cNvPr id="638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sp>
        <p:nvSpPr>
          <p:cNvPr id="639" name="PlaceHolder 1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EB5F-D745-4B8C-8FB2-8EF5A85B991D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Picture 8" descr="EEA Logo"/>
          <p:cNvPicPr/>
          <p:nvPr/>
        </p:nvPicPr>
        <p:blipFill>
          <a:blip r:embed="rId4"/>
          <a:stretch/>
        </p:blipFill>
        <p:spPr>
          <a:xfrm>
            <a:off x="250920" y="26028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9" descr="gerb"/>
          <p:cNvPicPr/>
          <p:nvPr/>
        </p:nvPicPr>
        <p:blipFill>
          <a:blip r:embed="rId5"/>
          <a:stretch/>
        </p:blipFill>
        <p:spPr>
          <a:xfrm>
            <a:off x="1619280" y="38088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Image 4" descr=""/>
          <p:cNvPicPr/>
          <p:nvPr/>
        </p:nvPicPr>
        <p:blipFill>
          <a:blip r:embed="rId2"/>
          <a:stretch/>
        </p:blipFill>
        <p:spPr>
          <a:xfrm>
            <a:off x="279360" y="0"/>
            <a:ext cx="8572680" cy="6845400"/>
          </a:xfrm>
          <a:prstGeom prst="rect">
            <a:avLst/>
          </a:prstGeom>
          <a:ln w="0">
            <a:noFill/>
          </a:ln>
        </p:spPr>
      </p:pic>
      <p:pic>
        <p:nvPicPr>
          <p:cNvPr id="681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sp>
        <p:nvSpPr>
          <p:cNvPr id="682" name="PlaceHolder 1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CD53-87D3-4CF6-99FF-6E810AED1CBE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Picture 8" descr="EEA Logo"/>
          <p:cNvPicPr/>
          <p:nvPr/>
        </p:nvPicPr>
        <p:blipFill>
          <a:blip r:embed="rId4"/>
          <a:stretch/>
        </p:blipFill>
        <p:spPr>
          <a:xfrm>
            <a:off x="250920" y="26028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9" descr=""/>
          <p:cNvPicPr/>
          <p:nvPr/>
        </p:nvPicPr>
        <p:blipFill>
          <a:blip r:embed="rId5"/>
          <a:stretch/>
        </p:blipFill>
        <p:spPr>
          <a:xfrm>
            <a:off x="2903400" y="5526000"/>
            <a:ext cx="1105200" cy="9320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1" descr="gerb"/>
          <p:cNvPicPr/>
          <p:nvPr/>
        </p:nvPicPr>
        <p:blipFill>
          <a:blip r:embed="rId6"/>
          <a:stretch/>
        </p:blipFill>
        <p:spPr>
          <a:xfrm>
            <a:off x="1619280" y="38088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Image 4" descr=""/>
          <p:cNvPicPr/>
          <p:nvPr/>
        </p:nvPicPr>
        <p:blipFill>
          <a:blip r:embed="rId2"/>
          <a:stretch/>
        </p:blipFill>
        <p:spPr>
          <a:xfrm>
            <a:off x="279360" y="0"/>
            <a:ext cx="8572680" cy="6845400"/>
          </a:xfrm>
          <a:prstGeom prst="rect">
            <a:avLst/>
          </a:prstGeom>
          <a:ln w="0">
            <a:noFill/>
          </a:ln>
        </p:spPr>
      </p:pic>
      <p:pic>
        <p:nvPicPr>
          <p:cNvPr id="725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sp>
        <p:nvSpPr>
          <p:cNvPr id="726" name="PlaceHolder 1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0D0C-B24D-4C9C-8587-DB7AACFA4B91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9" name="Picture 8" descr="EEA Logo"/>
          <p:cNvPicPr/>
          <p:nvPr/>
        </p:nvPicPr>
        <p:blipFill>
          <a:blip r:embed="rId4"/>
          <a:stretch/>
        </p:blipFill>
        <p:spPr>
          <a:xfrm>
            <a:off x="250920" y="26028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9" descr="gerb"/>
          <p:cNvPicPr/>
          <p:nvPr/>
        </p:nvPicPr>
        <p:blipFill>
          <a:blip r:embed="rId5"/>
          <a:stretch/>
        </p:blipFill>
        <p:spPr>
          <a:xfrm>
            <a:off x="1619280" y="38088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Image 4" descr=""/>
          <p:cNvPicPr/>
          <p:nvPr/>
        </p:nvPicPr>
        <p:blipFill>
          <a:blip r:embed="rId2"/>
          <a:stretch/>
        </p:blipFill>
        <p:spPr>
          <a:xfrm>
            <a:off x="279360" y="0"/>
            <a:ext cx="8572680" cy="6845400"/>
          </a:xfrm>
          <a:prstGeom prst="rect">
            <a:avLst/>
          </a:prstGeom>
          <a:ln w="0">
            <a:noFill/>
          </a:ln>
        </p:spPr>
      </p:pic>
      <p:pic>
        <p:nvPicPr>
          <p:cNvPr id="768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sp>
        <p:nvSpPr>
          <p:cNvPr id="769" name="PlaceHolder 1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DD54-A751-40BE-9DFE-866F86FE521D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2" name="Picture 8" descr="EEA Logo"/>
          <p:cNvPicPr/>
          <p:nvPr/>
        </p:nvPicPr>
        <p:blipFill>
          <a:blip r:embed="rId4"/>
          <a:stretch/>
        </p:blipFill>
        <p:spPr>
          <a:xfrm>
            <a:off x="250920" y="26028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9" descr="gerb"/>
          <p:cNvPicPr/>
          <p:nvPr/>
        </p:nvPicPr>
        <p:blipFill>
          <a:blip r:embed="rId5"/>
          <a:stretch/>
        </p:blipFill>
        <p:spPr>
          <a:xfrm>
            <a:off x="1619280" y="38088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6"/>
    <p:sldLayoutId id="2147483884" r:id="rId7"/>
    <p:sldLayoutId id="2147483885" r:id="rId8"/>
    <p:sldLayoutId id="2147483886" r:id="rId9"/>
    <p:sldLayoutId id="2147483887" r:id="rId10"/>
    <p:sldLayoutId id="2147483888" r:id="rId11"/>
    <p:sldLayoutId id="2147483889" r:id="rId12"/>
    <p:sldLayoutId id="2147483890" r:id="rId13"/>
    <p:sldLayoutId id="2147483891" r:id="rId14"/>
    <p:sldLayoutId id="2147483892" r:id="rId15"/>
    <p:sldLayoutId id="2147483893" r:id="rId16"/>
    <p:sldLayoutId id="2147483894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age 8" descr=""/>
          <p:cNvPicPr/>
          <p:nvPr/>
        </p:nvPicPr>
        <p:blipFill>
          <a:blip r:embed="rId2"/>
          <a:stretch/>
        </p:blipFill>
        <p:spPr>
          <a:xfrm>
            <a:off x="291960" y="139680"/>
            <a:ext cx="8547120" cy="6578640"/>
          </a:xfrm>
          <a:prstGeom prst="rect">
            <a:avLst/>
          </a:prstGeom>
          <a:ln w="0">
            <a:noFill/>
          </a:ln>
        </p:spPr>
      </p:pic>
      <p:pic>
        <p:nvPicPr>
          <p:cNvPr id="44" name="Image 11" descr=""/>
          <p:cNvPicPr/>
          <p:nvPr/>
        </p:nvPicPr>
        <p:blipFill>
          <a:blip r:embed="rId3"/>
          <a:stretch/>
        </p:blipFill>
        <p:spPr>
          <a:xfrm>
            <a:off x="-404640" y="-1000080"/>
            <a:ext cx="9956520" cy="2549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EEA Logo"/>
          <p:cNvPicPr/>
          <p:nvPr/>
        </p:nvPicPr>
        <p:blipFill>
          <a:blip r:embed="rId4"/>
          <a:stretch/>
        </p:blipFill>
        <p:spPr>
          <a:xfrm>
            <a:off x="324000" y="-31608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gerb"/>
          <p:cNvPicPr/>
          <p:nvPr/>
        </p:nvPicPr>
        <p:blipFill>
          <a:blip r:embed="rId5"/>
          <a:stretch/>
        </p:blipFill>
        <p:spPr>
          <a:xfrm>
            <a:off x="1692360" y="-195120"/>
            <a:ext cx="1008000" cy="84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Image 4" descr=""/>
          <p:cNvPicPr/>
          <p:nvPr/>
        </p:nvPicPr>
        <p:blipFill>
          <a:blip r:embed="rId2"/>
          <a:stretch/>
        </p:blipFill>
        <p:spPr>
          <a:xfrm>
            <a:off x="279360" y="0"/>
            <a:ext cx="8572680" cy="6845400"/>
          </a:xfrm>
          <a:prstGeom prst="rect">
            <a:avLst/>
          </a:prstGeom>
          <a:ln w="0">
            <a:noFill/>
          </a:ln>
        </p:spPr>
      </p:pic>
      <p:pic>
        <p:nvPicPr>
          <p:cNvPr id="811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sp>
        <p:nvSpPr>
          <p:cNvPr id="812" name="PlaceHolder 1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B621-7A9A-4AEA-A741-17C95E0124D7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5" name="Picture 8" descr="EEA Logo"/>
          <p:cNvPicPr/>
          <p:nvPr/>
        </p:nvPicPr>
        <p:blipFill>
          <a:blip r:embed="rId4"/>
          <a:stretch/>
        </p:blipFill>
        <p:spPr>
          <a:xfrm>
            <a:off x="250920" y="26028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9" descr="gerb"/>
          <p:cNvPicPr/>
          <p:nvPr/>
        </p:nvPicPr>
        <p:blipFill>
          <a:blip r:embed="rId5"/>
          <a:stretch/>
        </p:blipFill>
        <p:spPr>
          <a:xfrm>
            <a:off x="1619280" y="38088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Image 4" descr=""/>
          <p:cNvPicPr/>
          <p:nvPr/>
        </p:nvPicPr>
        <p:blipFill>
          <a:blip r:embed="rId2"/>
          <a:stretch/>
        </p:blipFill>
        <p:spPr>
          <a:xfrm>
            <a:off x="279360" y="0"/>
            <a:ext cx="8572680" cy="6845400"/>
          </a:xfrm>
          <a:prstGeom prst="rect">
            <a:avLst/>
          </a:prstGeom>
          <a:ln w="0">
            <a:noFill/>
          </a:ln>
        </p:spPr>
      </p:pic>
      <p:pic>
        <p:nvPicPr>
          <p:cNvPr id="854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pic>
        <p:nvPicPr>
          <p:cNvPr id="855" name="Image 5" descr="LogosEEAgrantsNORWAYgrants_CMJN.emf"/>
          <p:cNvPicPr/>
          <p:nvPr/>
        </p:nvPicPr>
        <p:blipFill>
          <a:blip r:embed="rId4"/>
          <a:stretch/>
        </p:blipFill>
        <p:spPr>
          <a:xfrm>
            <a:off x="735120" y="447840"/>
            <a:ext cx="2496960" cy="720720"/>
          </a:xfrm>
          <a:prstGeom prst="rect">
            <a:avLst/>
          </a:prstGeom>
          <a:ln w="0">
            <a:noFill/>
          </a:ln>
        </p:spPr>
      </p:pic>
      <p:sp>
        <p:nvSpPr>
          <p:cNvPr id="856" name="PlaceHolder 1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4A19-BCAE-4D49-98E5-DCA021E9B339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Image 4" descr=""/>
          <p:cNvPicPr/>
          <p:nvPr/>
        </p:nvPicPr>
        <p:blipFill>
          <a:blip r:embed="rId2"/>
          <a:stretch/>
        </p:blipFill>
        <p:spPr>
          <a:xfrm>
            <a:off x="279360" y="0"/>
            <a:ext cx="8572680" cy="6845400"/>
          </a:xfrm>
          <a:prstGeom prst="rect">
            <a:avLst/>
          </a:prstGeom>
          <a:ln w="0">
            <a:noFill/>
          </a:ln>
        </p:spPr>
      </p:pic>
      <p:pic>
        <p:nvPicPr>
          <p:cNvPr id="896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sp>
        <p:nvSpPr>
          <p:cNvPr id="897" name="PlaceHolder 1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D1EB-B824-4CAA-A12C-0D2CE4707B46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0" name="Picture 8" descr="EEA Logo"/>
          <p:cNvPicPr/>
          <p:nvPr/>
        </p:nvPicPr>
        <p:blipFill>
          <a:blip r:embed="rId4"/>
          <a:stretch/>
        </p:blipFill>
        <p:spPr>
          <a:xfrm>
            <a:off x="250920" y="26028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901" name="Picture 9" descr="gerb"/>
          <p:cNvPicPr/>
          <p:nvPr/>
        </p:nvPicPr>
        <p:blipFill>
          <a:blip r:embed="rId5"/>
          <a:stretch/>
        </p:blipFill>
        <p:spPr>
          <a:xfrm>
            <a:off x="1619280" y="380880"/>
            <a:ext cx="1008000" cy="849600"/>
          </a:xfrm>
          <a:prstGeom prst="rect">
            <a:avLst/>
          </a:prstGeom>
          <a:ln w="0">
            <a:noFill/>
          </a:ln>
        </p:spPr>
      </p:pic>
      <p:sp>
        <p:nvSpPr>
          <p:cNvPr id="90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6"/>
    <p:sldLayoutId id="2147483923" r:id="rId7"/>
    <p:sldLayoutId id="2147483924" r:id="rId8"/>
    <p:sldLayoutId id="2147483925" r:id="rId9"/>
    <p:sldLayoutId id="2147483926" r:id="rId10"/>
    <p:sldLayoutId id="2147483927" r:id="rId11"/>
    <p:sldLayoutId id="2147483928" r:id="rId12"/>
    <p:sldLayoutId id="2147483929" r:id="rId13"/>
    <p:sldLayoutId id="2147483930" r:id="rId14"/>
    <p:sldLayoutId id="2147483931" r:id="rId15"/>
    <p:sldLayoutId id="2147483932" r:id="rId16"/>
    <p:sldLayoutId id="214748393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Image 4" descr=""/>
          <p:cNvPicPr/>
          <p:nvPr/>
        </p:nvPicPr>
        <p:blipFill>
          <a:blip r:embed="rId2"/>
          <a:stretch/>
        </p:blipFill>
        <p:spPr>
          <a:xfrm>
            <a:off x="279360" y="0"/>
            <a:ext cx="8572680" cy="6845400"/>
          </a:xfrm>
          <a:prstGeom prst="rect">
            <a:avLst/>
          </a:prstGeom>
          <a:ln w="0">
            <a:noFill/>
          </a:ln>
        </p:spPr>
      </p:pic>
      <p:pic>
        <p:nvPicPr>
          <p:cNvPr id="84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EEA Logo"/>
          <p:cNvPicPr/>
          <p:nvPr/>
        </p:nvPicPr>
        <p:blipFill>
          <a:blip r:embed="rId4"/>
          <a:stretch/>
        </p:blipFill>
        <p:spPr>
          <a:xfrm>
            <a:off x="250920" y="26028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gerb"/>
          <p:cNvPicPr/>
          <p:nvPr/>
        </p:nvPicPr>
        <p:blipFill>
          <a:blip r:embed="rId5"/>
          <a:stretch/>
        </p:blipFill>
        <p:spPr>
          <a:xfrm>
            <a:off x="1619280" y="38088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Image 8" descr=""/>
          <p:cNvPicPr/>
          <p:nvPr/>
        </p:nvPicPr>
        <p:blipFill>
          <a:blip r:embed="rId2"/>
          <a:stretch/>
        </p:blipFill>
        <p:spPr>
          <a:xfrm>
            <a:off x="291960" y="139680"/>
            <a:ext cx="8547120" cy="6578640"/>
          </a:xfrm>
          <a:prstGeom prst="rect">
            <a:avLst/>
          </a:prstGeom>
          <a:ln w="0">
            <a:noFill/>
          </a:ln>
        </p:spPr>
      </p:pic>
      <p:pic>
        <p:nvPicPr>
          <p:cNvPr id="124" name="Image 11" descr=""/>
          <p:cNvPicPr/>
          <p:nvPr/>
        </p:nvPicPr>
        <p:blipFill>
          <a:blip r:embed="rId3"/>
          <a:stretch/>
        </p:blipFill>
        <p:spPr>
          <a:xfrm>
            <a:off x="-404640" y="-1000080"/>
            <a:ext cx="9956520" cy="25495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792E-BF1A-4086-AE84-1F1A777D629F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8" descr="EEA Logo"/>
          <p:cNvPicPr/>
          <p:nvPr/>
        </p:nvPicPr>
        <p:blipFill>
          <a:blip r:embed="rId4"/>
          <a:stretch/>
        </p:blipFill>
        <p:spPr>
          <a:xfrm>
            <a:off x="250920" y="-24300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gerb"/>
          <p:cNvPicPr/>
          <p:nvPr/>
        </p:nvPicPr>
        <p:blipFill>
          <a:blip r:embed="rId5"/>
          <a:stretch/>
        </p:blipFill>
        <p:spPr>
          <a:xfrm>
            <a:off x="1619280" y="-12240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Image 8" descr=""/>
          <p:cNvPicPr/>
          <p:nvPr/>
        </p:nvPicPr>
        <p:blipFill>
          <a:blip r:embed="rId2"/>
          <a:stretch/>
        </p:blipFill>
        <p:spPr>
          <a:xfrm>
            <a:off x="291960" y="139680"/>
            <a:ext cx="8547120" cy="6578640"/>
          </a:xfrm>
          <a:prstGeom prst="rect">
            <a:avLst/>
          </a:prstGeom>
          <a:ln w="0">
            <a:noFill/>
          </a:ln>
        </p:spPr>
      </p:pic>
      <p:pic>
        <p:nvPicPr>
          <p:cNvPr id="167" name="Image 11" descr=""/>
          <p:cNvPicPr/>
          <p:nvPr/>
        </p:nvPicPr>
        <p:blipFill>
          <a:blip r:embed="rId3"/>
          <a:stretch/>
        </p:blipFill>
        <p:spPr>
          <a:xfrm>
            <a:off x="-404640" y="-1000080"/>
            <a:ext cx="9956520" cy="25495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3477-52B3-4AEE-BBBE-F829CF961566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8" descr="EEA Logo"/>
          <p:cNvPicPr/>
          <p:nvPr/>
        </p:nvPicPr>
        <p:blipFill>
          <a:blip r:embed="rId4"/>
          <a:stretch/>
        </p:blipFill>
        <p:spPr>
          <a:xfrm>
            <a:off x="324000" y="-24300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gerb"/>
          <p:cNvPicPr/>
          <p:nvPr/>
        </p:nvPicPr>
        <p:blipFill>
          <a:blip r:embed="rId5"/>
          <a:stretch/>
        </p:blipFill>
        <p:spPr>
          <a:xfrm>
            <a:off x="1692360" y="-12240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Image 8" descr=""/>
          <p:cNvPicPr/>
          <p:nvPr/>
        </p:nvPicPr>
        <p:blipFill>
          <a:blip r:embed="rId2"/>
          <a:stretch/>
        </p:blipFill>
        <p:spPr>
          <a:xfrm>
            <a:off x="291960" y="139680"/>
            <a:ext cx="8547120" cy="6578640"/>
          </a:xfrm>
          <a:prstGeom prst="rect">
            <a:avLst/>
          </a:prstGeom>
          <a:ln w="0">
            <a:noFill/>
          </a:ln>
        </p:spPr>
      </p:pic>
      <p:pic>
        <p:nvPicPr>
          <p:cNvPr id="210" name="Image 11" descr=""/>
          <p:cNvPicPr/>
          <p:nvPr/>
        </p:nvPicPr>
        <p:blipFill>
          <a:blip r:embed="rId3"/>
          <a:stretch/>
        </p:blipFill>
        <p:spPr>
          <a:xfrm>
            <a:off x="-404640" y="-1000080"/>
            <a:ext cx="9956520" cy="25495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29D9-40D7-488E-8DDE-5C3F9E668184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8" descr="EEA Logo"/>
          <p:cNvPicPr/>
          <p:nvPr/>
        </p:nvPicPr>
        <p:blipFill>
          <a:blip r:embed="rId4"/>
          <a:stretch/>
        </p:blipFill>
        <p:spPr>
          <a:xfrm>
            <a:off x="250920" y="-24300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9" descr="gerb"/>
          <p:cNvPicPr/>
          <p:nvPr/>
        </p:nvPicPr>
        <p:blipFill>
          <a:blip r:embed="rId5"/>
          <a:stretch/>
        </p:blipFill>
        <p:spPr>
          <a:xfrm>
            <a:off x="1619280" y="-12240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Image 8" descr=""/>
          <p:cNvPicPr/>
          <p:nvPr/>
        </p:nvPicPr>
        <p:blipFill>
          <a:blip r:embed="rId2"/>
          <a:stretch/>
        </p:blipFill>
        <p:spPr>
          <a:xfrm>
            <a:off x="291960" y="139680"/>
            <a:ext cx="8547120" cy="6578640"/>
          </a:xfrm>
          <a:prstGeom prst="rect">
            <a:avLst/>
          </a:prstGeom>
          <a:ln w="0">
            <a:noFill/>
          </a:ln>
        </p:spPr>
      </p:pic>
      <p:pic>
        <p:nvPicPr>
          <p:cNvPr id="253" name="Image 11" descr=""/>
          <p:cNvPicPr/>
          <p:nvPr/>
        </p:nvPicPr>
        <p:blipFill>
          <a:blip r:embed="rId3"/>
          <a:stretch/>
        </p:blipFill>
        <p:spPr>
          <a:xfrm>
            <a:off x="-404640" y="-1000080"/>
            <a:ext cx="9956520" cy="254952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D33F-48A3-4379-867A-4EAB34031F7E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8" descr="EEA Logo"/>
          <p:cNvPicPr/>
          <p:nvPr/>
        </p:nvPicPr>
        <p:blipFill>
          <a:blip r:embed="rId4"/>
          <a:stretch/>
        </p:blipFill>
        <p:spPr>
          <a:xfrm>
            <a:off x="250920" y="-24300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9" descr="gerb"/>
          <p:cNvPicPr/>
          <p:nvPr/>
        </p:nvPicPr>
        <p:blipFill>
          <a:blip r:embed="rId5"/>
          <a:stretch/>
        </p:blipFill>
        <p:spPr>
          <a:xfrm>
            <a:off x="1619280" y="-12240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Image 8" descr=""/>
          <p:cNvPicPr/>
          <p:nvPr/>
        </p:nvPicPr>
        <p:blipFill>
          <a:blip r:embed="rId2"/>
          <a:stretch/>
        </p:blipFill>
        <p:spPr>
          <a:xfrm>
            <a:off x="291960" y="139680"/>
            <a:ext cx="8547120" cy="6578640"/>
          </a:xfrm>
          <a:prstGeom prst="rect">
            <a:avLst/>
          </a:prstGeom>
          <a:ln w="0">
            <a:noFill/>
          </a:ln>
        </p:spPr>
      </p:pic>
      <p:pic>
        <p:nvPicPr>
          <p:cNvPr id="296" name="Image 11" descr=""/>
          <p:cNvPicPr/>
          <p:nvPr/>
        </p:nvPicPr>
        <p:blipFill>
          <a:blip r:embed="rId3"/>
          <a:stretch/>
        </p:blipFill>
        <p:spPr>
          <a:xfrm>
            <a:off x="-404640" y="-1000080"/>
            <a:ext cx="9956520" cy="254952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2190-6B48-4CF5-8F32-F222F4C23626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Picture 8" descr="EEA Logo"/>
          <p:cNvPicPr/>
          <p:nvPr/>
        </p:nvPicPr>
        <p:blipFill>
          <a:blip r:embed="rId4"/>
          <a:stretch/>
        </p:blipFill>
        <p:spPr>
          <a:xfrm>
            <a:off x="250920" y="-171360"/>
            <a:ext cx="1152360" cy="9126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9" descr="gerb"/>
          <p:cNvPicPr/>
          <p:nvPr/>
        </p:nvPicPr>
        <p:blipFill>
          <a:blip r:embed="rId5"/>
          <a:stretch/>
        </p:blipFill>
        <p:spPr>
          <a:xfrm>
            <a:off x="1619280" y="-50760"/>
            <a:ext cx="1008000" cy="84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Image 8" descr=""/>
          <p:cNvPicPr/>
          <p:nvPr/>
        </p:nvPicPr>
        <p:blipFill>
          <a:blip r:embed="rId2"/>
          <a:stretch/>
        </p:blipFill>
        <p:spPr>
          <a:xfrm>
            <a:off x="291960" y="139680"/>
            <a:ext cx="8547120" cy="6578640"/>
          </a:xfrm>
          <a:prstGeom prst="rect">
            <a:avLst/>
          </a:prstGeom>
          <a:ln w="0">
            <a:noFill/>
          </a:ln>
        </p:spPr>
      </p:pic>
      <p:pic>
        <p:nvPicPr>
          <p:cNvPr id="339" name="Image 11" descr=""/>
          <p:cNvPicPr/>
          <p:nvPr/>
        </p:nvPicPr>
        <p:blipFill>
          <a:blip r:embed="rId3"/>
          <a:stretch/>
        </p:blipFill>
        <p:spPr>
          <a:xfrm>
            <a:off x="-404640" y="-1000080"/>
            <a:ext cx="9956520" cy="25495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8EBA-B275-4326-9D45-46FE9F522C04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Picture 8" descr="EEA Logo"/>
          <p:cNvPicPr/>
          <p:nvPr/>
        </p:nvPicPr>
        <p:blipFill>
          <a:blip r:embed="rId4"/>
          <a:stretch/>
        </p:blipFill>
        <p:spPr>
          <a:xfrm>
            <a:off x="250920" y="-24300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9" descr="gerb"/>
          <p:cNvPicPr/>
          <p:nvPr/>
        </p:nvPicPr>
        <p:blipFill>
          <a:blip r:embed="rId5"/>
          <a:stretch/>
        </p:blipFill>
        <p:spPr>
          <a:xfrm>
            <a:off x="1619280" y="-12240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eea@moew.government.bg" TargetMode="External"/><Relationship Id="rId2" Type="http://schemas.openxmlformats.org/officeDocument/2006/relationships/slideLayout" Target="../slideLayouts/slideLayout25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907560" y="3784680"/>
            <a:ext cx="7029720" cy="18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Launching conference and matchmaking event</a:t>
            </a: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Sofia</a:t>
            </a:r>
            <a:r>
              <a:rPr b="1" i="1" lang="bg-BG" sz="2800" spc="-1" strike="noStrike">
                <a:solidFill>
                  <a:srgbClr val="000000"/>
                </a:solidFill>
                <a:latin typeface="Calibri"/>
              </a:rPr>
              <a:t>, 25.06.20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title"/>
          </p:nvPr>
        </p:nvSpPr>
        <p:spPr>
          <a:xfrm>
            <a:off x="526680" y="2060280"/>
            <a:ext cx="8077320" cy="16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apply for programmes</a:t>
            </a:r>
            <a:r>
              <a:rPr b="0" lang="bg-BG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G02, BG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lection and award criteria</a:t>
            </a:r>
            <a:r>
              <a:rPr b="0" lang="bg-BG" sz="4000" spc="-1" strike="noStrike">
                <a:solidFill>
                  <a:srgbClr val="000000"/>
                </a:solidFill>
                <a:latin typeface="Calibri"/>
              </a:rPr>
              <a:t> (4)*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ward criteria</a:t>
            </a: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liance with the Regulation, EU and national legislation </a:t>
            </a: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t.</a:t>
            </a: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 4.7. (а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the EEA Regulation</a:t>
            </a: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oject complies with the EU and national legis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oject complies with the national legislation, incl. procurement, state aid, tax, labor and social insurance, special law related to the call top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3300"/>
                </a:solidFill>
                <a:latin typeface="Calibri"/>
              </a:rPr>
              <a:t>* </a:t>
            </a:r>
            <a:r>
              <a:rPr b="0" lang="en-US" sz="2400" spc="-1" strike="noStrike">
                <a:solidFill>
                  <a:srgbClr val="ff3300"/>
                </a:solidFill>
                <a:latin typeface="Calibri"/>
              </a:rPr>
              <a:t>Criteria are under review by the OFM and may differ in the published ca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lection and award criteria</a:t>
            </a:r>
            <a:r>
              <a:rPr b="0" lang="bg-BG" sz="4000" spc="-1" strike="noStrike">
                <a:solidFill>
                  <a:srgbClr val="000000"/>
                </a:solidFill>
                <a:latin typeface="Calibri"/>
              </a:rPr>
              <a:t> (5)*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lusion criteria</a:t>
            </a: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oject does not contribute to the programme imple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w quality project (has not achieved the minimum percentage of the maturity and quality scor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ll specific exclusion crite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pproved grant amount may be different from the amount applied for, i.e. on evaluator’s suggestion</a:t>
            </a: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800" spc="-1" strike="noStrike">
                <a:solidFill>
                  <a:srgbClr val="ff3300"/>
                </a:solidFill>
                <a:latin typeface="Calibri"/>
              </a:rPr>
              <a:t>* </a:t>
            </a:r>
            <a:r>
              <a:rPr b="0" lang="en-US" sz="1800" spc="-1" strike="noStrike">
                <a:solidFill>
                  <a:srgbClr val="ff3300"/>
                </a:solidFill>
                <a:latin typeface="Calibri"/>
              </a:rPr>
              <a:t>Criteria are under review by the OFM and may differ in the published cal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valuation and selection proc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ion stages </a:t>
            </a: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ulation, Art.</a:t>
            </a: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 6.4, 6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ministrative evaluation by the Programme operator. Appeals possible from rejected applic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ward evaluation performed by independent evaluators (two for each project plus a third if arbitration necessar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ject pipeline</a:t>
            </a: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pared by PO</a:t>
            </a: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s from the pipeline’s reserve list will be contacted if awarded applicants are not contracted, when reserves occur, et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627280" y="0"/>
            <a:ext cx="63374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ject funding and implementation</a:t>
            </a:r>
            <a:r>
              <a:rPr b="0" lang="bg-BG" sz="4000" spc="-1" strike="noStrike">
                <a:solidFill>
                  <a:srgbClr val="000000"/>
                </a:solidFill>
                <a:latin typeface="Calibri"/>
              </a:rPr>
              <a:t> (1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nt</a:t>
            </a: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EA grant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 – 85%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emaining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 15%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covered by the applicant and the partners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Bulgarian budgetary organizations, own contribution is covered by the state budg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yment scheme</a:t>
            </a: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vance payment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applied for, up to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 3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im payments (advanced and offset against expenditure)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iling is set in the programme, up to 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40%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G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, up to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 50%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G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0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al payment – reimbursement of expenditure, up to 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100%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the approved gr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5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ject funding and implementation </a:t>
            </a:r>
            <a:r>
              <a:rPr b="0" lang="bg-BG" sz="4000" spc="-1" strike="noStrike">
                <a:solidFill>
                  <a:srgbClr val="000000"/>
                </a:solidFill>
                <a:latin typeface="Calibri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orting</a:t>
            </a: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arterly progress reporting. Ongoing verification of each re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yment requests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pon offset of advanced fu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alytical or separate accounting for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dit tr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roject implementation guide is uner prepa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2637000"/>
            <a:ext cx="77724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r>
              <a:rPr b="0" lang="bg-BG" sz="44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eea@moew.government.b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771280" y="274320"/>
            <a:ext cx="59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tnership</a:t>
            </a:r>
            <a:r>
              <a:rPr b="0" lang="bg-BG" sz="4400" spc="-1" strike="noStrike">
                <a:solidFill>
                  <a:srgbClr val="000000"/>
                </a:solidFill>
                <a:latin typeface="Calibri"/>
              </a:rPr>
              <a:t>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d partner principle: The applicant/beneficiary represents the partnership to the Programme operator</a:t>
            </a: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nership agreement is signed when the project is approv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icant: as in the call (national authorities, municipalities, research and development/educational institutions, NGO)</a:t>
            </a: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pplicant and partners must meet general requirements (i.e. clean record, no bancrupcy, …) – described in the call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2771280" y="274320"/>
            <a:ext cx="59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tnership</a:t>
            </a:r>
            <a:r>
              <a:rPr b="0" lang="bg-BG" sz="4400" spc="-1" strike="noStrike">
                <a:solidFill>
                  <a:srgbClr val="000000"/>
                </a:solidFill>
                <a:latin typeface="Calibri"/>
              </a:rPr>
              <a:t>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rritorial principle: The applicant/beneficiary and partners must be from Bulgaria, its neighboring countries, or the donor stat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ociated partners (without budget from the programme) may also be other organizations.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organization can apply with up to 2 and partner in up to 3 projec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oint implementation and funding. Joint planning and staffing are an advantag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nimum requirements to project specialists described in each cal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800" spc="-1" strike="noStrike">
                <a:solidFill>
                  <a:srgbClr val="ff3300"/>
                </a:solidFill>
                <a:latin typeface="Calibri"/>
              </a:rPr>
              <a:t>* </a:t>
            </a:r>
            <a:r>
              <a:rPr b="0" lang="en-US" sz="1800" spc="-1" strike="noStrike">
                <a:solidFill>
                  <a:srgbClr val="ff3300"/>
                </a:solidFill>
                <a:latin typeface="Calibri"/>
              </a:rPr>
              <a:t>A modification in the EEA Regulation is underway that may affect this ru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771280" y="274320"/>
            <a:ext cx="59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onor project partn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ject preparation funding will be available also after the launch event (first come-first serve within the alloc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nor project partners and bilateral activities will bring additional points during project evalu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ls will contain information for foreign part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nor project partners may also contact the Norwegian Environment Ag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imitations arising out of the Regulation/program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d partner </a:t>
            </a: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icant/beneficiary</a:t>
            </a: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be only a Bulgarian organization as listed in the c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U legislation must be complied with, notably for procurement and state aid </a:t>
            </a: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urement is only possible for Bulgarian partners. Bulgarian Procurement law or Ordinance 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69/201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pply. Foreign partners may procure only below the BPL thresholds. 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organizations within the scope of State Aid law, grant amount is limited by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e minim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eiling 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UR 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200 00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3 years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7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igible expendi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569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tegories eligible expenditure</a:t>
            </a: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ulation, Ch. 7</a:t>
            </a: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ff 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vel and subsist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rect costs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rrently: overheads only, 7% of staff costs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)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ernal expertise and supp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ingencies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p to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 1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igibility in time</a:t>
            </a: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enditure was invoiced between the date of project contract and the project’s end (not later than April 30, 201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enditure was paid up to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 3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ys after the project’s end but not later than May 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3300"/>
                </a:solidFill>
                <a:latin typeface="Calibri"/>
              </a:rPr>
              <a:t>* </a:t>
            </a:r>
            <a:r>
              <a:rPr b="0" lang="en-US" sz="2000" spc="-1" strike="noStrike">
                <a:solidFill>
                  <a:srgbClr val="ff3300"/>
                </a:solidFill>
                <a:latin typeface="Calibri"/>
              </a:rPr>
              <a:t>An upcoming modification may influence this ru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lection and award criteria</a:t>
            </a:r>
            <a:r>
              <a:rPr b="0" lang="bg-BG" sz="4000" spc="-1" strike="noStrike">
                <a:solidFill>
                  <a:srgbClr val="000000"/>
                </a:solidFill>
                <a:latin typeface="Calibri"/>
              </a:rPr>
              <a:t> (1)*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ministrative criteria</a:t>
            </a: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ication form and, its annexes and supporting documents are filled fully and correct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igibility of applicants, partners, activities, expendi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ward criteria</a:t>
            </a: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lue for money </a:t>
            </a: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t.</a:t>
            </a: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 4.7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the EEA Regulation</a:t>
            </a: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enditures comply to the commonly known (i.e. market price for equip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fficient project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verage effect (previous investments on the same topic, income generation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3300"/>
                </a:solidFill>
                <a:latin typeface="Calibri"/>
              </a:rPr>
              <a:t>* </a:t>
            </a:r>
            <a:r>
              <a:rPr b="0" lang="en-US" sz="2000" spc="-1" strike="noStrike">
                <a:solidFill>
                  <a:srgbClr val="ff3300"/>
                </a:solidFill>
                <a:latin typeface="Calibri"/>
              </a:rPr>
              <a:t>Criteria are under review by the OFM and may differ in the published ca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lection and award criteria</a:t>
            </a:r>
            <a:r>
              <a:rPr b="0" lang="bg-BG" sz="4000" spc="-1" strike="noStrike">
                <a:solidFill>
                  <a:srgbClr val="000000"/>
                </a:solidFill>
                <a:latin typeface="Calibri"/>
              </a:rPr>
              <a:t> (2)*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ward criteria</a:t>
            </a: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ibution to the general EEA FM objectives and the programme’s objectives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t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. 4.7. (а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the EEA Regulation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antitative checks</a:t>
            </a: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project will not be selected if it does not achieve the programme’s output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core is higher depending on the number of programme outputs that the project will co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alitative checks</a:t>
            </a: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ecks of the specialized project activities (their quality and risk manageme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eck of the capacity building and information 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800" spc="-1" strike="noStrike">
                <a:solidFill>
                  <a:srgbClr val="ff3300"/>
                </a:solidFill>
                <a:latin typeface="Calibri"/>
              </a:rPr>
              <a:t>* </a:t>
            </a:r>
            <a:r>
              <a:rPr b="0" lang="en-US" sz="1800" spc="-1" strike="noStrike">
                <a:solidFill>
                  <a:srgbClr val="ff3300"/>
                </a:solidFill>
                <a:latin typeface="Calibri"/>
              </a:rPr>
              <a:t>Criteria are under review by the OFM and may differ in the published cal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lection and award criteria </a:t>
            </a:r>
            <a:r>
              <a:rPr b="0" lang="bg-BG" sz="4000" spc="-1" strike="noStrike">
                <a:solidFill>
                  <a:srgbClr val="000000"/>
                </a:solidFill>
                <a:latin typeface="Calibri"/>
              </a:rPr>
              <a:t>(3)*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ward criteria</a:t>
            </a: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ibution to the general EEA FM objectives and the programme’s objectives </a:t>
            </a: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t</a:t>
            </a: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. 4.7. (а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the EEA Regulation</a:t>
            </a: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roject contributes to the implementation of EEA acquis, EU and national strategies and program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roject aims at solving key technical and scientific iss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maturity and sustaina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ribution to bilateral coope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800" spc="-1" strike="noStrike">
                <a:solidFill>
                  <a:srgbClr val="ff3300"/>
                </a:solidFill>
                <a:latin typeface="Calibri"/>
              </a:rPr>
              <a:t>* </a:t>
            </a:r>
            <a:r>
              <a:rPr b="0" lang="en-US" sz="2000" spc="-1" strike="noStrike">
                <a:solidFill>
                  <a:srgbClr val="ff3300"/>
                </a:solidFill>
                <a:latin typeface="Calibri"/>
              </a:rPr>
              <a:t>Criteria are under review by the OFM and may differ in the published ca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1:04:30Z</dcterms:created>
  <dc:creator>user_DTK</dc:creator>
  <dc:description/>
  <dc:language>en-US</dc:language>
  <cp:lastModifiedBy>nec460p</cp:lastModifiedBy>
  <dcterms:modified xsi:type="dcterms:W3CDTF">2014-06-25T14:26:44Z</dcterms:modified>
  <cp:revision>168</cp:revision>
  <dc:subject/>
  <dc:title>Slide 1</dc:title>
</cp:coreProperties>
</file>