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AAFE-6879-43C8-B416-88610481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860-B300-4245-A25A-D460DC9B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B3ED6-611D-47FE-8DD2-DF38856C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11382-CE51-400B-BF8F-DC78FD1D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4DDDE-AE29-443F-B696-A02A5D2F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07EDF-3507-48CC-889E-A728041B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2DAC0-B1AC-46ED-AA36-37340010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AA746-6DAD-4949-A9E2-E527EFC8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5D103-BBE3-411D-97C5-4A5A31DE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85C6D-2EA5-4805-A070-A4BAEEAB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7AE6D-9AC8-414A-913A-D449A700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A6DFC-97F4-47D7-8D33-6C0097EF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3B56-B804-458B-98A2-D14FE3F9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821EC-7941-4C80-BF4A-28BD8C0B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4CD60-2E06-474D-801A-9AFF538B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A1CE8-7820-4A13-BF63-76B38448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16221-EBE8-4FBA-B34F-B1D4280D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5C450-D716-42D6-BB4B-CB17F298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9053F-1A62-4276-A000-909050DF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A0E27-24EC-4937-A73C-CDAD042A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F63BF-0C26-47D6-9BB9-5AC8D10A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C0652-4DB4-4CDC-89EA-D6BE3DB0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F62A5-3632-4A1F-BE2B-6552BE65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A18-DE94-41F7-9F3C-8E90A451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CE379-89BF-46AF-9CB1-20F7E01A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0516F-D591-4385-ACC1-7A082137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FAFA5-EC81-45C4-9A53-837E539B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2169A-C215-4446-91A8-B16F0EDD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A761D-0CA7-40A1-8D25-61C726EA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72878-F833-4375-8242-888FEBA4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E0440-3D62-4CD9-89DC-EA6CA6B7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54E5D-2D16-4E30-99B5-758E0C8C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23EB3-0B84-4762-9BB1-EBB7DF27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7D5D8-4394-4232-82BA-038A90F0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F11E7-76E2-40EE-B377-96B1526A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46A27-459F-4CF3-A198-26E69540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BDCA9-C53F-48F3-92BA-5FEA62FC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B3977-6F25-4949-871F-C1FFBA5B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BA00E-5F65-4B2F-A74A-CFA6BDB2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AE55C-E71C-42F5-A090-CF53822E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80C9D-5866-4524-A3B4-C522493B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CFC03-C3ED-4907-B89E-A88E04E7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A83F3-7518-4028-A01F-5099E280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369D6-820D-4DAE-90EF-3A64A0CC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164CB-819E-47E2-9B93-1128F34B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AE724-0FC1-4F09-AC63-8687CDDC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2CA8B-0E4D-4F19-A089-65514343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E8CAC-A91F-4059-9B0C-F84796F6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702C0-8EA9-44D1-A72D-CFB244C8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F3C22-D79A-4A18-8E19-9F6FA70B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D50EA-0240-4C84-AE5A-0D80C14D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3033F-603D-40A1-994A-1D5AE98A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3D3F5-5B27-47EC-95EC-54C9D943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6F4D2-E668-44B0-ADA4-F2AA948D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8E0C7-1A80-4CEA-8DD5-59E281C5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4153E-0231-48D4-A390-8B79CF7C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F77E6-10B9-4039-9F3E-B2EAC725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B9653-BD8A-45EE-BF45-5C79A2F8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FAC0A-B8C0-42B7-A5DA-06C98BED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AC5C3-0856-4A76-8A6D-C888F724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672FE-CA39-4B15-A9BE-C02BF94C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69875-153B-4D12-A3CD-795E4E73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A266C-37A1-47C6-9C37-500C83A2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96872-546B-4941-819B-761E9C3A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55408-13E4-48CD-86DD-5DC28FB1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5B9B7-A29F-453A-8BFF-F1A31F85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71DC1-2727-43E0-8601-1B6B10D3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105B9-E477-429A-B871-5D637C9B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A6527-5CDB-4AFB-836A-697AD07F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DF85F-A9CB-4FF4-B61D-6A6155C6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C4A3D-5AF6-4B18-88EC-6B7F249A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89956-77B8-4AE3-8A34-1D45877E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E3F5F-9422-4BFE-9CD9-D83DB93E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0381C-DAA1-45CC-8FD1-C39D13D2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A93EDB-6411-40DF-8708-391F4AA4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8B785-9A1E-40FB-91AE-691708BC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53BCE-B3BB-463B-BBD4-A598DB50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C6378-302C-466D-BB72-7D2CFEFA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CA985-A6E2-4749-B460-6259E97B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6F23D9-5B09-43F7-A16D-022E293F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5F355-D358-4767-A72F-AA4162D7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B4E700-1263-4D76-8FAE-D767AF92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EDF12-3594-453B-BB84-20A3C552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CF83E-26ED-4582-9A13-34857375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28ADED-783B-46D9-92A0-C7B29DE1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15107-5DAF-4341-9A30-0166BB3D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0B7C09-0CB9-45EF-BBB0-B7F741D7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93698-4EE0-4615-828D-631EF956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50585D-9DAB-4CCA-BA4F-608F6417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A7DD9-AF5E-4F4C-827F-7B8B13E0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C2678-6D04-498D-ADDD-8104907D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67CB5-DC9A-40B3-9C6F-499FE302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C58739-A9B8-46D4-81EC-AA0559AC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CE0F5-F113-4E90-9A30-6F69194D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76218F-3BB5-4D7B-9725-26E4051B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D50F2-5AC3-4727-92AA-24F4DEF7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1483CB-9BCB-46B0-B9F7-FF25F4F9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94DD89-BD50-459E-A180-67494D5E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4BA4C6-4E3F-45EE-87BF-BAFA7860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A94362-B349-4F43-BECF-3C4A3ACF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F978B0-62CF-467C-B255-93043D83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5BA1E-DD41-4E07-B59D-CE65463C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3F25C3-1942-4AB1-BE99-FB580A5B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536843-B908-45E0-B09F-707F9A49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4A4-FFEB-4272-960F-B747E3F8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74AD36-B818-4B79-8CEE-9379FBB3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193893-D0C6-4836-986E-F2B116FC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4B7712-4A1E-4E41-80B2-32E96B01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AEC12-F1ED-44A7-90DA-8B216EFB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75EA0A-5C77-4996-A6AC-EAABDA57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D27490-5785-4D62-837E-58753918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0F23D1-27FD-40CF-B819-92FDF717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32EBFB-4911-47DE-BED4-4E1D88B2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F2948-BB14-4BEF-87E3-EB10AED5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F6FED7-6686-4BF4-A8F2-363F7153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176EA2-B390-4EF0-8E1C-64BD0714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FBB519-69C7-4BAA-833F-DA5B3B9B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CBF629-B675-475B-805F-576A90FF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A92D0F-A1C3-4A2A-AF86-182894ED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830491-692A-4B39-AF48-CC1F6356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8ACC2A-75FA-4C67-B346-F72C3DCE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0ED136-E648-4105-87BB-250FA3D8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932468-EF89-421B-9043-8E7B0535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23B1FA-9241-45A0-813A-F4138796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E5B1B4-A8B6-4A58-AE61-A87CE1B8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45E770-6C05-4F27-A9CA-B182BA40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027111-C5A0-42FF-BD90-DD6CFA23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25009F-25C2-48DE-A1AB-433304B0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536FAD-893D-4386-B245-AD1C974A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86ED4F-22C4-40EE-8D4D-7497C6E7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7A8455-6C3E-4E7A-A824-733CBE8D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E985D2-25D2-42F4-8019-E4B18214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6B5522-A50B-48F8-A2B3-6A1F679D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E4A889-DBEB-4A01-AE90-5FAED3DE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D60990-98E3-4F71-992F-35EF356C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F2B36E-C9E7-4660-8D2F-87EE1602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E4A3E2-5A01-4D2B-BD05-3E7E6B45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004926-49CF-4593-A19B-76C0B25D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707938-5964-41AE-8208-2BE97783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AA2426-189A-4566-8FB9-0AD978B6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896D67-929B-458D-B664-4C0284D0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4FDD57-D6AB-4D07-A796-82504A2B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9F746E-DFD1-4D3A-97C6-6FBAD0E7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938E39-DFF2-4BB3-9135-F030EEDE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F47A88-CED4-48A8-B314-53E7B1AC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EC6E37-F341-41B9-8D60-A19B5E17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8FEF6E-367A-44D6-A82F-F89FDE8E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B7767D-B0F6-486C-8018-14E97ED8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E99AFE-CC07-4325-B6A5-3629C3C2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CF7568-C573-4D2C-AE2D-95620691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1B6FE5-3A63-4B27-98A4-5C004F58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4C9FC6-73EC-4DC5-B09C-A188C3BC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680FBF-97D3-4C18-B3EA-8C9F867A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FA21E4-ECF8-4298-B040-A95F3AEE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EA06CD-EA11-4CD7-97F5-F21A6495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17C391-DE22-4C3C-9C05-47013F5D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61FB6D-7A40-4E93-85C2-1262BB4C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2F79BB-18CC-4334-AD57-6AC8D1FD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29C19F-05D7-40FC-A0DD-E4370B65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2BE0BC-11D4-443C-AB27-E417CF50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A802E2-AA64-4EA9-8F2D-830A140D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DF25A5-F45D-4057-A183-269A910A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D82EAF-366F-4D91-9B5F-5A8038F4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7BE93F-FA50-4EBD-B675-A8335F7F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93FE9F-871E-43CD-B655-0AB08498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5D9C46-28FD-46A9-B459-8FA6E4BC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D4A4B0-097B-4926-A47F-1603F7BD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B83F59-4260-4D58-BEC8-16DB236B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5DCC3D-079D-45CB-A6F8-689DAE0A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74A0AF-B96A-4BA3-967A-C1BA1EC8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3F81-BB6B-4BA0-AEC2-03908218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2F1A-461D-4984-AD74-F5C6D1CD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33F0-11E6-4B45-B3B9-AED39F5E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D6B0-A5D5-4AF9-810D-EE6283A4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D4A4-89D5-4517-B19E-7564B597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68A9-74B0-41B2-978E-8E8746EA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78EB-AC8B-42AC-808E-83D30108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2084-F628-416C-B8EE-4E89E757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48B0-E253-4DFB-A9A0-95F7789A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1DE6-46A3-429E-803D-7202199F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86D0-BC91-41EA-97DD-D66E4830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CAF5-723D-48F7-80F1-1CE5F4A7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1510-03E0-4F9D-AE51-8BE28F1D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7271-ED36-4A31-83CF-0216DF7B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8063C-1170-445C-A877-2F1379C2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57C7-AC40-49B3-9257-ED49A562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CFBF0-B15F-4A43-BAE4-F8357E87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1019D-9978-4956-A9BB-B3E528EC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8F741-B262-47C6-A84B-E43DC1BD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A72EF-EE9B-4F36-9E76-6E9DD820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1E4A5-F2B8-4D5A-A0F7-1604BC8F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65DF0-5E2E-4760-8FE2-0B3BB44B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5C36B-C287-4B60-8963-07803EA0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2ACC8-A425-414A-A2F9-80607011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29E1B-DCAE-41D2-B59E-74BEAD51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86691-3D85-41FC-AC63-A8DAE76D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1D2-C0BE-465E-83E7-78DA9307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5D216-7B75-482F-ADF0-33BA198C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AD343-AF5B-4415-9894-BE94AFCE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92BEC-23B8-4921-9553-CE9DDD02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9E6D7-DB5F-4C30-8582-9F4DDD52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66049-0532-4114-9CD3-17086046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7FA6C-CCF8-42E5-89C3-161C58AB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53C16-3F7B-4FDD-9D1D-F45DA8AC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92407-DDFC-483F-BE40-04FB118E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32CCE-08FB-4567-AF62-B1B4E85A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B0579-7077-4ED2-B5DE-19B85966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4ECD-ABFE-41D7-86AB-E47795FD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21058-652F-4711-B6AA-C605BEAA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E2500-0F7D-493D-BD62-AED4CA71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79224-2710-4BC8-8A62-7A51465A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155A7-D387-49D8-AEF0-8B7043D8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CCD3E-C83F-4E51-A350-32C89146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C2A5B-3D7C-4954-890B-7A95A8B2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1B5E6-495B-4A88-A363-473D26BE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B9EDB-7F9D-453F-A707-9C6F39F7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8C033-ED82-4EEF-8422-5D9A0AFE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79877-C56C-432B-9A14-BB31DE78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A0BB-78D0-43B6-8000-73C5D302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80135-744F-4816-90DD-FDC15241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D07F0-3483-42F2-8729-78295884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57F23-695C-428D-8E82-3BBC5B9B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7E914-D3E0-4C72-BA0F-06567496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0AFD6-5363-44C8-B109-DF982E7F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A3ACD-1FC1-4B40-B6BB-0F0FF2EB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91988-E450-430D-983D-DE03F514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94DFE-EF02-48D2-84F2-5D3045FD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1590A-7F09-44B4-B6D9-20D24558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F874A-5F9D-484F-9D56-2994E9CC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91E-CE90-4B65-A9DA-0C8FB34A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4A413-D5E0-4F6B-9880-9CB9D064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8A479-BC93-4788-BD0B-CFC4884E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11334-73E2-4FBF-8C78-5BFB56C5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08A37-5046-460D-98A8-440B528F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A1A54-883C-41EA-8789-C55CF665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DCA07-0A35-48F1-BA22-A67259C0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D83B3-41BD-4FE7-9927-341A8050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D1A29-52AA-42CE-BCA9-AA5D84A7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8DEEA-FDD9-463C-B37E-12E868C3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40AFC-D135-4C47-924D-0F874A30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1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0674-109A-4BC0-8BF2-CD681668D503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382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B916-61E8-4ED4-9D02-E517C2A06823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8" descr="EEA Logo"/>
          <p:cNvPicPr/>
          <p:nvPr/>
        </p:nvPicPr>
        <p:blipFill>
          <a:blip r:embed="rId4"/>
          <a:stretch/>
        </p:blipFill>
        <p:spPr>
          <a:xfrm>
            <a:off x="250920" y="-27792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gerb"/>
          <p:cNvPicPr/>
          <p:nvPr/>
        </p:nvPicPr>
        <p:blipFill>
          <a:blip r:embed="rId5"/>
          <a:stretch/>
        </p:blipFill>
        <p:spPr>
          <a:xfrm>
            <a:off x="1619280" y="-15732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425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55E6-9D7D-4C62-8B9D-578371E5027E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Picture 8" descr="EEA Logo"/>
          <p:cNvPicPr/>
          <p:nvPr/>
        </p:nvPicPr>
        <p:blipFill>
          <a:blip r:embed="rId4"/>
          <a:stretch/>
        </p:blipFill>
        <p:spPr>
          <a:xfrm>
            <a:off x="250920" y="-171360"/>
            <a:ext cx="1152360" cy="9126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gerb"/>
          <p:cNvPicPr/>
          <p:nvPr/>
        </p:nvPicPr>
        <p:blipFill>
          <a:blip r:embed="rId5"/>
          <a:stretch/>
        </p:blipFill>
        <p:spPr>
          <a:xfrm>
            <a:off x="1619280" y="-50760"/>
            <a:ext cx="100800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468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0259-EE80-462D-A7E0-D65925FA82DA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511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F3C3-B971-4690-A930-8F7D9F160842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554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555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E3E4-9705-48B4-BFE2-05EDDA98F726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596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597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5D92-C86B-490A-A880-3773AF0CE57D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638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5335-6B3D-40D3-ADD1-71DD3441BD00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681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0AEB-54B3-4A86-9FEA-F441DAF6C49D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9" descr=""/>
          <p:cNvPicPr/>
          <p:nvPr/>
        </p:nvPicPr>
        <p:blipFill>
          <a:blip r:embed="rId5"/>
          <a:stretch/>
        </p:blipFill>
        <p:spPr>
          <a:xfrm>
            <a:off x="2903400" y="5526000"/>
            <a:ext cx="1105200" cy="9320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gerb"/>
          <p:cNvPicPr/>
          <p:nvPr/>
        </p:nvPicPr>
        <p:blipFill>
          <a:blip r:embed="rId6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725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8790-340A-409B-B8FC-C223D4D0C6B5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768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A5A5-413C-4649-8EB3-2149F5462F1F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44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EEA Logo"/>
          <p:cNvPicPr/>
          <p:nvPr/>
        </p:nvPicPr>
        <p:blipFill>
          <a:blip r:embed="rId4"/>
          <a:stretch/>
        </p:blipFill>
        <p:spPr>
          <a:xfrm>
            <a:off x="324000" y="-3160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gerb"/>
          <p:cNvPicPr/>
          <p:nvPr/>
        </p:nvPicPr>
        <p:blipFill>
          <a:blip r:embed="rId5"/>
          <a:stretch/>
        </p:blipFill>
        <p:spPr>
          <a:xfrm>
            <a:off x="1692360" y="-195120"/>
            <a:ext cx="100800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811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812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96EB-F963-4B4B-8BBC-6CF91467FEFB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854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855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7781-9A09-4329-9BBF-A1750E631961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896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897" name="PlaceHolder 1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F07D-EF9C-439D-97F5-F25EE8D67A7F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  <p:sp>
        <p:nvSpPr>
          <p:cNvPr id="90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84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124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F868-B5CA-4FFB-9C38-3028E49E464C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167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9015-1773-4F9A-A3D9-4522F8C0C2E1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8" descr="EEA Logo"/>
          <p:cNvPicPr/>
          <p:nvPr/>
        </p:nvPicPr>
        <p:blipFill>
          <a:blip r:embed="rId4"/>
          <a:stretch/>
        </p:blipFill>
        <p:spPr>
          <a:xfrm>
            <a:off x="32400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gerb"/>
          <p:cNvPicPr/>
          <p:nvPr/>
        </p:nvPicPr>
        <p:blipFill>
          <a:blip r:embed="rId5"/>
          <a:stretch/>
        </p:blipFill>
        <p:spPr>
          <a:xfrm>
            <a:off x="169236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210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8194-DCB8-4945-BD54-4692E84CE0E0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253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E048-0966-4EB5-9DE4-807307BC5E5A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296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BD3E-0C1F-4920-B853-B34D074D40F5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8" descr="EEA Logo"/>
          <p:cNvPicPr/>
          <p:nvPr/>
        </p:nvPicPr>
        <p:blipFill>
          <a:blip r:embed="rId4"/>
          <a:stretch/>
        </p:blipFill>
        <p:spPr>
          <a:xfrm>
            <a:off x="250920" y="-171360"/>
            <a:ext cx="1152360" cy="912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gerb"/>
          <p:cNvPicPr/>
          <p:nvPr/>
        </p:nvPicPr>
        <p:blipFill>
          <a:blip r:embed="rId5"/>
          <a:stretch/>
        </p:blipFill>
        <p:spPr>
          <a:xfrm>
            <a:off x="1619280" y="-50760"/>
            <a:ext cx="100800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339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4463-81F8-4365-8837-E6242E8770BD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eea@moew.government.bg" TargetMode="External"/><Relationship Id="rId2" Type="http://schemas.openxmlformats.org/officeDocument/2006/relationships/slideLayout" Target="../slideLayouts/slideLayout2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907560" y="3784680"/>
            <a:ext cx="7029720" cy="18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Конференция за откриване на програми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и създаване на партньорства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София, 25.06.2014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title"/>
          </p:nvPr>
        </p:nvSpPr>
        <p:spPr>
          <a:xfrm>
            <a:off x="526680" y="206028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Как да кандидатствате по програми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G02, BG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ритерии за оценка и подбор (4)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ритерии за подбо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ъответствие с Регламента, европейското и национално законодателство (чл. 4.7. (а) от Регламента на ЕИП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ектът не противоречи на Реглам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ектът спазва националното законодателство, в т.ч. за обществени поръчки, държавни помощи, трудово и осигурително законодателство, специфично законодателство по темата на покан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alibri"/>
              </a:rPr>
              <a:t>* Критериите са в процес на преглед от донора и в публикуваните покани могат да се различават от представено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ритерии за оценка и подбор (5)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ритерии за изключван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ектът не допринася за изпълнението на програм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ектът не е качествен (не е постигнат минимален процент от точките за зрялост и качество на проек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руги критерии според характера на покан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ъзможно е одобрената безвъзмездна помощ да се различава от поисканата, напр. по предложение на независимите оцените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* Критериите са в процес на преглед от донора и в публикуваните покани могат да се различават от представено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оцес на оценка и подбо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тапи на оценка (чл. 6.4, 6.5 от Регламен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дминистративна оценка – извършва се от Програмния оператор. Възможност за обжалване на отхвърлени проек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ценка по критериите за подбор – от независими оценители (двама плюс арбитър при необходимос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ласиране и резервен списък (изготвен от П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ектите от резервния списък ще бъдат потърсени при отпадане на класирани кандидати, наличие на резерв и т.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63374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Финансиране и изпълнение на проектите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Безвъзмездна помощ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Помощ от ФМ на ЕИП – 85%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Останалите 15% се покриват от бенефициента и партньори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За български бюджетни организации собствения принос се покрива от държавния бюдж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Схема на плащания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Авансово плащане – до 30%, както е поискано от кандид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Междинни плащания с характер на аванс – според програмата (до 40% п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G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до 50% п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G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0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Окончателно плащане – възстановяване на остатъка до 100% от одобрената безвъзмездна помо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5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Финансиране и изпълнение на проектите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тчетнос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римесечно отчитане на напредъка. Текуща верификация на всеки отч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скания за средства: при изчерпване на авансово преведени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налитична или отделна счетоводна отчет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дитна сле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зготвя се ръководство за бенефициен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263700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лагодаря за вниманиет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ea@moew.government.b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ртньорство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нцип на водещия партньор: кандидатът/бенефициентът представлява партньорството пред Програмния оператор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поразумение между партньорите се подписва при одобряване на прое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ндидат: съгласно описаното в поканата (национални органи, общини, научни, изследователски/образователни институции, НП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ндидатът и партньорите да отговарят на общи изисквания (напр. съдимост, банкрут, …) – ще бъдат описани в покан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ртньорство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ериториален принцип: кандидатът/бенефициентът или партньорите да са от България, съседните й държави или страните – доно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социирани партньори (без бюджет от програмата) могат да бъдат и други организации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сяка организация може да кандидатства с 2 проекта и да участва в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ъвместно изпълнение и финансиране. Съвместно планиране и управление са предим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инимални изисквания към специалистите по проекта са описани във всяка пок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* Предстои промяна в Регламента на ФМ на ЕИП, която може да засегне това прави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Донорски проектни партньор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редства за подготовка на проекти са налични и след информационните дни (до изчерпван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артньори от страните-донори и планирани двустранни дейности ще носят точки при оценката на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каните ще съдържат информация, насочена към чуждестранни партнь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артньори от страните – донори могат да се обръщат и към Норвежката агенция за околна сре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626920" y="274320"/>
            <a:ext cx="54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граничения от Регламента/програма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одещ партньор (кандидат/бенефициент) може да бъде само българска организация измежду изброените в покан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пазване на законодателството на ЕС, в т.ч. за обществени поръчки и държавни помощ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ъзлагането е възможно само от български партньори. Спазва се ЗОП или ПМС 69/2013 г. Чуждестранните партньори могат да закупуват само под праговете по ЗОП/ПМ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а организации в обхвата на Закона за държавните помощи, сумата на гранта се ограничава от тавана за минимални помощи (200 000 евро за 3 годин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пустими разхо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тегории допустими разходи (гл. 7 от Регламен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зходи за запл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мандировъч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преки разходи (в момента: режийни в размер на 7% от разходите за заплати)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ъншни услуги и достав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езерв за непредвидени разходи (до 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опустимост във времет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зходът да е фактуриран между датата на ДБФП и края на проекта, не по-късно от 30.04.2016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зходът да е платен до 30 дни след края на проекта/30.05.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alibri"/>
              </a:rPr>
              <a:t>* Възможна е промяна, която да засегне това прави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ритерии за оценка и подбор (1)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Административни критер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Правилно и пълно попълване на формуляра за кандидатстване и представените докумен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Допустимост на кандида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партньори, дейности, разхо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Критерии за подбор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Икономичност, ефикасност, ефективност (чл. 4.7. от Регламента на ЕИП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Съответствие на заложените разходи с общоприетите такива (напр. пазарна цена за оборудван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Ефективно управление на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Лостов ефект (предишни инвестиции по въпроса, генерирани приходи и т.н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ff3300"/>
                </a:solidFill>
                <a:latin typeface="Calibri"/>
              </a:rPr>
              <a:t>* Критериите са в процес на преглед от донора и в публикуваните покани могат да се различават от представено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ритерии за оценка и подбор (2)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ритерии за подбор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нос към общите целите на ФМ на ЕИП и на програмата (чл. 4.7. (а) от Регламента на ЕИП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оличествени проверк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оектът не може да се класира, ако не постига резултати, предвидени в програм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ценката се повишава според броя резултати на програмата, които проектът ще покр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ачествени проверк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оверки на специализираните дейности (управление на качеството и риска им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оверки на дейностите за изграждане на капацитет и информирано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* Критериите са в процес на преглед от донора и в публикуваните покани могат да се различават от представено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ритерии за оценка и подбор (3)*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ритерии за подбо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нос към общите цели на ФМ на ЕИП и на програмата (чл. 4.7. (а) от Регламента на ЕИП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верка дали проектът допринася за прилагане правото на ЕС, европейски и национални стратегии и прогр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верка дали проектът е насочен към решаването на ключови научни и технически въпро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рялост и устойчивост на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нос към двустранните отно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alibri"/>
              </a:rPr>
              <a:t>* Критериите са в процес на преглед от донора и в публикуваните покани могат да се различават от представено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1:04:30Z</dcterms:created>
  <dc:creator>user_DTK</dc:creator>
  <dc:description/>
  <dc:language>en-US</dc:language>
  <cp:lastModifiedBy>nec460p</cp:lastModifiedBy>
  <dcterms:modified xsi:type="dcterms:W3CDTF">2014-06-25T14:25:23Z</dcterms:modified>
  <cp:revision>161</cp:revision>
  <dc:subject/>
  <dc:title>Slide 1</dc:title>
</cp:coreProperties>
</file>