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823-C0B0-4166-B2B8-70825D41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EF9-E609-4A2F-A541-48C9A487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BBB1-A8D9-4E60-A521-BEE8630E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37682-E520-414B-A0BC-21ABE1DA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B47DD-671F-4EBC-870C-4C77851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CBC39-9AC2-4F84-9C2A-0153A5D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7A4A1-4ACD-4F80-AFC0-4889E8B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C9DF-776C-47B0-95A6-046E6BD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E61AA-9E5B-464A-8D7A-4B0FAC33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2120-75B8-41CD-AF89-4E831220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08C2-EF3F-47E0-8F62-ED64611A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4D65-6A67-4C36-B1AD-25EAC371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E20D-484E-4940-B939-00FB464E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F6FD2-84B7-4DB6-8A45-8C2BE8CA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7B3F3-0C19-4803-B8B6-99E1D3F4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9490A-1B29-4529-BA2F-1CD1BC1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17A78-5947-4AED-8947-4B611B0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019D-F69B-4A9C-AFB1-6EBF515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F053C-E21C-48A2-BEEE-181C817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6DCC-E3AB-415F-B862-6100F72D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FE511-CB44-45D4-AE8A-051210E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089B-85DA-4750-AFE2-57C3C9D4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3A752-457B-448A-B74B-AA2D65CB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01E-1D9F-45F9-BA36-42CCCCC1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8420-3C00-41DD-93FF-06068FC6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DF8C9-2858-4587-B6AB-C12EAF3F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B6055-BA30-4E32-BE82-4562CC92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B806-34CF-4778-897F-7B97424C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48D0-FAC3-425D-B45C-4A032673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39E65-B6E9-4F02-8CC5-2CFD5604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B55EC-7CD9-4421-98D3-E48C00EC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3614D-72C9-4CDA-89A7-9C5116B2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E2111-818C-41FE-AB53-5FA2860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28C58-FFF1-402F-A404-68FB0C04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8F7B9-9968-423C-BBFF-2FC3C33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D4326-63FB-44AE-AC8E-E762955D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12098-2E28-4BD2-84DE-2F0791B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39E8B-402C-4BB6-8E31-BBDE741B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7496B-2440-4444-AF98-15A82B0E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4266B-C956-4990-8CC8-70078978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34E4A-A1F0-4DF0-BD78-5D655CF4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7A4ED-9602-4162-93BC-5EE45BB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EF49-B265-49F4-859E-342FC578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60AF1-D0BC-4E9B-9B1F-E119F6F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FD8B1-C23C-4017-9477-AA76338A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05240-6EC3-48E1-88AC-ED2F6A1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E7706-8E55-4F69-B254-4BBD6D92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26C3D-1FF2-45A8-837C-A05DAEB1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00DD6-5B82-44F1-8134-DA264181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DB2D7-CA5E-4073-BCE1-3A9AF4DE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90EBC-93C4-49A2-98A6-D757665B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E6754-3564-4563-8EB1-C5EAEC3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79D19-424F-40D1-A645-BE5BCEF2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99E38-E213-4193-9E20-FA5163D1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13E2C-E6A6-4ED7-ACC6-D4B252AC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DF7C3-EAA9-4B74-8F95-C039C6FD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3525-36B2-46F5-8100-9652CAEF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C4156-4A1B-4945-91E4-8918595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BAC16-EA82-4535-B999-65D6A0BA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4806A-1C98-4BDE-9153-6CE762C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3514B-11FC-4061-B9A6-616C3818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C3845-513C-4EC2-919D-B1F70EAD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1D4F7-EC6D-4E8E-B752-944EE7EE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A0E0B-7FF0-4633-8BEF-16B78E18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FF8EC-9F32-47F3-8A74-39B8A5D3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91366-ACDF-4B96-AF7C-EFA84AC8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BA97E-E7F2-4FCC-B8E8-BC072F15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CDD0E-73DB-4308-8E50-49EAB599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6BFEC-F2D6-4D4C-8F57-1BFBB6DE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C2B70-5BC2-4B64-B6FD-6E0AB7C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459CB-D367-45EB-A0E5-3A5E8CEF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999D5-BFBF-40AA-B7B6-194E544C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60A4E-47FE-4696-889E-B316BD9E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9D3B7-94C5-4E61-8957-EF3FB9E7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278DC-BFC5-418B-B2CE-EC91C1B0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E7E14-D489-4A01-B98E-CF0E9F70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2CED1-58E4-4A2A-AA03-4DF63245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13448-2D23-4128-AED0-9F96C070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6AF87-2430-4A22-A312-E27F480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B648F-AED0-48C2-BC56-1F476B1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B13D7-1988-4992-81AC-16CCEE3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A5A61-D410-4C55-955F-32EB808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6DCDC-CF5F-42A2-8DF3-259B1464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1E303-2CC2-403B-BB7B-916BEEA2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16AD4-C174-4584-99E1-CD441815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8EB1-C249-43A8-BD64-54C4077A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265D6-6955-4690-A34A-500E1E55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0F748-A761-483B-83F9-4988AFC3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47FEF-EFB4-4A5C-815F-FAC2EC4A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E0298-7A4B-4439-92C4-E1ADB1EE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A65C1-5330-43CD-B4E8-13CEAA24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E6DE7-E477-477E-8650-D8FD4B6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B7ECC-BDA4-415F-B298-E47D2A6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4AF1C-277C-43F4-AF01-B32C2D95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8321F-7004-4112-B424-B996763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D11DE-B6ED-4FE0-AF32-C2926AE0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CBAB4-AAFD-4171-9661-5699385D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69C50A-26E2-4D8C-8FB2-65A132A1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C0FE0-D4D3-431A-8319-7FF5FF77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44838-0FF9-41C4-A543-65C4BBD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EFD17-851B-4D73-9922-5DA76C5F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679A4-F31F-4617-A49A-01D0DB74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DD90A-DF17-4489-834C-D070C55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5AE30A-9ABA-4A28-8A60-018212C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90D-0043-4B72-88A4-096525F7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1E422-01D7-49E3-99AE-8A09B18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957E0-7DA5-493F-B4C0-B54F459A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EAC05C-CFAF-4FDC-AE03-8CF94BA5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71FE9-2399-4A49-AFA2-82BC3770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6134A-190F-4C21-AAC1-F44F94FD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B0776-3CEF-4B88-AE0C-EDAF96B5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83F6C2-0BEA-4A11-873A-04D2A67E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54082-FFC6-443D-8DF4-7406A51F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165D7-B7FE-4E1C-B71A-265D3D15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9980E6-5DBB-4399-898D-90B1D3F6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99AC8B-B0EA-429D-A83A-686A727C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0830D-CC82-4227-A0EC-47A4674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44E10-35B0-4500-8EA4-36F9A324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8139C-594A-4EEA-9559-835C6CFA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AE9C95-A9C8-4C63-957F-746FCC0E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C3DAA-9413-4F67-9729-078A0417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E818A-CC7D-4D10-9239-7137B114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B3DFA-7E50-42EC-9B91-7BB49F04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0FB316-6934-4935-A0B7-12DF872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827A3-1328-49C5-9B93-34DD6D46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FB1A6-6221-4A4F-90D3-C7C0D42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5B5CD-1803-4E14-9C75-F05682F7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D811C-5899-42AB-9EBF-5597CAB7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4B7C5-5C85-4EA7-AE0D-0B93F6A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7504F-963F-4F0A-BF01-FE41788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7D6A8E-05CB-4C77-AEC2-9635EBF0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8A448-F743-444E-8833-45879ED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7F4DB-1967-43F0-A056-42841B0A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CAD621-301F-40B2-8C70-3D24538D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94FE0-0EAA-4C0A-B63C-27269EDD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48B37-6DAE-4162-94F7-4C9B3A6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30317B-2C95-4D2A-824A-8807EF8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886AA-5F23-453E-BDE2-EEFD238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A8DB8-3416-44AE-BD68-46D3D2F8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A6B11-7406-41DB-81FA-0939E178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4522F-1495-493F-A799-78EADBB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86DAF4-BEC6-4F1C-A541-F5023CC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5A465-52B7-456A-98C7-AFAEA74F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F65C9-71FA-4019-8152-A8440383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B035B4-A687-4016-8078-258DEC6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CD108-D67E-4C08-B74F-A17996EC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7469B-592A-4D8B-8C56-B020CE47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07D29-0FBC-41D7-84D2-B6B84C8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1C09F-FE34-476C-87C8-5FECE53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A4320-F3CC-4195-8BDA-C2FB691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DABC2-99E3-4D5A-A068-82114E5C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5F669-A980-4CD6-8A24-C4A4EC1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3DD1A-7DAF-490F-A88B-887221BE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FEA92-78EA-454E-9992-855DEC36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552F6-325A-4132-9488-D4B37E32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62B3C-3ACB-400B-B38A-8A3B0C3A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AEC2A9-6BBB-497A-90E6-6F6B83B3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3BDAF-6B0D-47CD-8C79-1F967D97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E7349B-F59E-4B8C-B6E6-C72E515C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381607-E68F-4DD7-A652-D40E506E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3010A-7B6B-469A-B587-A169248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341E2A-59B9-4876-9D0A-249DD1E6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9DF36-8F1D-4260-9258-10027EC9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7FB8F-245C-459F-AEB2-82D1E204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4F5A8-C7E3-42F5-B967-0281A62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E6CD3E-65D7-4A99-BF48-71908F46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B0292-3C38-43B5-A55C-7F348A85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8BF38-9E12-4E7A-B6CB-2063B17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4E876-858D-4E54-A0F8-7FA18A5C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1FDD2-C8DF-4473-BB1B-186A9C5A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A3C-6D04-4350-9E75-53652CF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EC83-055B-4963-8C5E-111758E7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9819-E1E7-4DF0-83FF-0917C62E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96DF-1F3F-4608-9636-C720F4E4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324-6B80-4545-92B4-43841EA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07F7-EDDC-4FA5-9530-CC9BB8FF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1EF2-97DD-4181-9590-A9DE0EE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0871-06CC-4B33-8069-5EA19C98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9EF-D6DA-4D52-813F-045F757C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4B6-8A12-4788-BA52-6FD83B5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07F-2495-40DF-A2BD-089DFD3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0B05-4D1A-44B3-8B93-C3A4BB27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9628-723D-4ED2-ACE9-969B4E19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E77-0A35-45B8-A2A6-7A6CF767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F95D-FE0E-4057-9A83-A9C0F99B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121-A35C-470E-88BD-DDB8BADB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5B0C-2861-4432-AC3A-D5CDF119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A6E23-45AE-4D91-B9E4-6990910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14E7-D471-4BE6-83E5-7BF48FBB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DECB-EFA7-41A8-84CB-68590AA2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0C6E-6859-4B01-8691-62EA5FDB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335B-8AC0-462D-A12D-38196736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E9B5-0AC4-47E9-806E-E22B8C6D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1EC1-AC3D-4235-86BE-785D79AD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779D-2AFC-4FE9-9498-FF7FC3D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BD024-7525-4E8D-AD39-2C1DAB4B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A20-B8ED-4673-BC9C-6698BF8A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C4A4-5D36-4A1A-9B04-7C74CFF1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E6DF-AC92-41B0-B612-F8B9AFFB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DB67-6B28-4C51-BBF2-824CDC9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4B5F-8ADE-4598-BF19-3CDF580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6D5A-8BC4-42C1-9D61-27C89F2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794D-3681-4986-A589-91865032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DBCF-040A-4547-854C-A7D8A2D9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04A6E-ECB9-4B09-8FC1-35EC45F4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0D74-A78A-46BF-815C-80D2744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E1207-B75A-4C3A-9ADD-F4726298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A26-C5C8-4F77-8559-CDDE5507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D5B60-317B-4E1D-B311-545CF037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F1E8-3ED9-4B8D-8C6F-00DFA381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60FE-2850-45FB-A3EA-66117D95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F05D1-8191-480E-B278-3A6B2D77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FE3B-0269-40FB-97D2-F457030C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90CD8-A1DE-4C0B-AA2C-FF8C8DCC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0E0BD-D4B2-43A0-8FC3-E23BBADC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B4E4-DA7A-4386-986A-9960B28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BD1A-7A7D-4C1B-B626-CCA342CD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8271-FF5F-441D-9FA3-260180A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E4B-C608-4B78-9EBD-37F94A3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FCA6E-0F68-4873-BA00-CAA18FF2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FB8DB-BE30-4E64-9374-C6642E9C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64C59-D443-45AF-92DA-4DC6623B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F3AD-F5CB-45F3-A5D7-20509878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074EB-1EDA-4786-A5DE-E7D983E6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D6F53-EAB0-4A0F-A64B-A2532090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FC699-DB09-46D1-BACE-DFA12DA8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C079-B94F-4299-81C2-FC333E6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0E2C-1CF4-4073-A0EE-6227173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BE050-722C-4B90-AB20-AEFC329A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460-822B-4522-BAD3-FF67A642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19001-C654-4F89-BBD0-9F6E1DC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3134C-4682-4B15-9091-BB95366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76424-6163-433C-AB0A-215B269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63FA2-3597-4FB0-AEC4-B5F93253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CBD5-A348-4207-B194-1B94F178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71481-4522-4707-AE07-3B34090D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C6897-F16E-4DCA-807D-540FC8BA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0B83-A70D-4759-BF0E-B5FEF377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1116-84F9-490C-9338-38F17C6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DDFA2-DD7C-4647-998D-BA522FE7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F7C-FEED-4DE5-975E-4EA1112E8B0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B97-EB48-4D58-8F47-A86DA87F5C5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EEA Logo"/>
          <p:cNvPicPr/>
          <p:nvPr/>
        </p:nvPicPr>
        <p:blipFill>
          <a:blip r:embed="rId4"/>
          <a:stretch/>
        </p:blipFill>
        <p:spPr>
          <a:xfrm>
            <a:off x="250920" y="-27792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gerb"/>
          <p:cNvPicPr/>
          <p:nvPr/>
        </p:nvPicPr>
        <p:blipFill>
          <a:blip r:embed="rId5"/>
          <a:stretch/>
        </p:blipFill>
        <p:spPr>
          <a:xfrm>
            <a:off x="1619280" y="-15732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BBA7-2E56-47ED-AAB0-C4DC3DEA33F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233E-4FFA-4BE5-B8DD-65503C20B08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180-94E6-4186-81C7-B7875A83F1C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EEEB-32CF-445E-96E8-73938079AC57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FDB5-3DAA-4A4F-A186-6277E0950C08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3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7EC-C6FC-42E7-BFAB-0FDD65F4F45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8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37C-4154-456F-B217-0645AF04385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"/>
          <p:cNvPicPr/>
          <p:nvPr/>
        </p:nvPicPr>
        <p:blipFill>
          <a:blip r:embed="rId5"/>
          <a:stretch/>
        </p:blipFill>
        <p:spPr>
          <a:xfrm>
            <a:off x="2903400" y="5526000"/>
            <a:ext cx="1105200" cy="9320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gerb"/>
          <p:cNvPicPr/>
          <p:nvPr/>
        </p:nvPicPr>
        <p:blipFill>
          <a:blip r:embed="rId6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2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5684-A59B-42B3-AB30-871FBA0CE154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6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A1D8-56F1-446C-89C4-21CC3B078F3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EA Logo"/>
          <p:cNvPicPr/>
          <p:nvPr/>
        </p:nvPicPr>
        <p:blipFill>
          <a:blip r:embed="rId4"/>
          <a:stretch/>
        </p:blipFill>
        <p:spPr>
          <a:xfrm>
            <a:off x="324000" y="-3160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erb"/>
          <p:cNvPicPr/>
          <p:nvPr/>
        </p:nvPicPr>
        <p:blipFill>
          <a:blip r:embed="rId5"/>
          <a:stretch/>
        </p:blipFill>
        <p:spPr>
          <a:xfrm>
            <a:off x="1692360" y="-19512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38DA-F796-49CB-AEBE-AFEF3C5FD12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E54-61A3-4499-81B6-A3857CE4FCE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1D90-05FB-4264-A8D1-C83B72A38870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FD75-148A-4C84-AFD0-43AE2A3A08F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497A-8151-4F83-A838-87369D94278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EEA Logo"/>
          <p:cNvPicPr/>
          <p:nvPr/>
        </p:nvPicPr>
        <p:blipFill>
          <a:blip r:embed="rId4"/>
          <a:stretch/>
        </p:blipFill>
        <p:spPr>
          <a:xfrm>
            <a:off x="32400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gerb"/>
          <p:cNvPicPr/>
          <p:nvPr/>
        </p:nvPicPr>
        <p:blipFill>
          <a:blip r:embed="rId5"/>
          <a:stretch/>
        </p:blipFill>
        <p:spPr>
          <a:xfrm>
            <a:off x="169236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53F5-071B-482E-AD3F-25196FA2E22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24E7-0840-4629-859A-D7D82D0977A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E85E-8CB6-4E1B-94D8-193957783C9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77B-4167-4E76-BA47-AB82C5B5B4A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eea@moew.government.bg" TargetMode="External"/><Relationship Id="rId2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a.government.bg/bg/soer/2010/biodiversity-nem/biologichno-raznoobrazie-natsionalna-ekologichna-mrezha-1" TargetMode="External"/><Relationship Id="rId2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5" descr="lilium_jankae1"/>
          <p:cNvPicPr/>
          <p:nvPr/>
        </p:nvPicPr>
        <p:blipFill>
          <a:blip r:embed="rId1"/>
          <a:stretch/>
        </p:blipFill>
        <p:spPr>
          <a:xfrm>
            <a:off x="-14400" y="4680"/>
            <a:ext cx="9158400" cy="68533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3"/>
          <p:cNvSpPr/>
          <p:nvPr/>
        </p:nvSpPr>
        <p:spPr>
          <a:xfrm>
            <a:off x="-36360" y="4508640"/>
            <a:ext cx="9650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Цел на програм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Да спрем загубата на биологично разнообраз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Програмен партнь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Arial"/>
              </a:rPr>
              <a:t>Норвежка агенция за околна ср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G 03: </a:t>
            </a: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Биологич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разнообразие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3600" spc="-1" strike="noStrike">
                <a:solidFill>
                  <a:srgbClr val="ffffff"/>
                </a:solidFill>
                <a:latin typeface="Arial"/>
              </a:rPr>
              <a:t>еко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Picture 8" descr="EEA Logo"/>
          <p:cNvPicPr/>
          <p:nvPr/>
        </p:nvPicPr>
        <p:blipFill>
          <a:blip r:embed="rId2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9" descr="gerb"/>
          <p:cNvPicPr/>
          <p:nvPr/>
        </p:nvPicPr>
        <p:blipFill>
          <a:blip r:embed="rId3"/>
          <a:stretch/>
        </p:blipFill>
        <p:spPr>
          <a:xfrm>
            <a:off x="7885080" y="419040"/>
            <a:ext cx="1008000" cy="8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2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Картиране и оценка на екосисте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Фоку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артиране и биофизична оценка на екосистемите (ЕС) и техните услуги (ЕС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риториален обхв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въ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TURA 2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матика: само биофизична, не и парична оценка на 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 резултатите от предефинирания проек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чаквани резулт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100%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криване на територията извън НАТУРА 2000, оценка на потенциала за предоставяне на 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формацията от проектите се въвежда в новия модул на НСМБР за 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ответствие с текуща работа на ниво на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етайли ще бъдат доуточнени на по-късен етап, публикуване на поканата във втората половина на 2014 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G03.03 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екторни политики за системно използване на екосистемните услу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Фокус: други политики, относими към екосистемния подход, по-специалн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менение на кли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остъп до генетични ресурси (протокол от Наго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Проучвания за прилагане на хоризонтални поли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граждане на капацитет за прилагане на ново законодателство в тези обла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нвентаризация на заинтересовани стра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регистри, системи за разрешителни и т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еглед на информационни системи и бази дан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еждународно сътрудни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3: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ндикативни допустими дей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учвания в секторни политики за екосистемните услуги, в т.ч. адаптация към изменението на климата, достъп до генетични ресурси и други теми, подпомагащи прилагането на законодателството: проучвания за въздействието, идентификация на мерки, подготовка на проекти за стратегии , нормативни акт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бота със заинтересованите страни: идентификация, проучвания, инвентаризация на заинтересовани лица и техните отговорности, междуведомствени работни групи, публични консултации, обмен на оп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3: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ндикативни допустими дей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Изграждане на капац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национални регист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системи за разрешител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учвания, анализи и т.н. за изменение/подобряване на действащо или въвеждането и прилагането на ново законодателст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руги подкрепящи мерки, подпомагащи разработването на ново законодателство, напр. подобряване на национални генбанки или национален принос към международните генба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ea@moew.government.b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хема на дейностит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6" name="AutoShape 3"/>
          <p:cNvCxnSpPr>
            <a:stCxn id="947" idx="3"/>
            <a:endCxn id="948" idx="1"/>
          </p:cNvCxnSpPr>
          <p:nvPr/>
        </p:nvCxnSpPr>
        <p:spPr>
          <a:xfrm flipV="1">
            <a:off x="5686200" y="5160240"/>
            <a:ext cx="170280" cy="106920"/>
          </a:xfrm>
          <a:prstGeom prst="bentConnector3">
            <a:avLst>
              <a:gd name="adj1" fmla="val 49364"/>
            </a:avLst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cxnSp>
        <p:nvCxnSpPr>
          <p:cNvPr id="949" name="AutoShape 4"/>
          <p:cNvCxnSpPr>
            <a:stCxn id="950" idx="3"/>
            <a:endCxn id="947" idx="1"/>
          </p:cNvCxnSpPr>
          <p:nvPr/>
        </p:nvCxnSpPr>
        <p:spPr>
          <a:xfrm flipV="1">
            <a:off x="2577960" y="5266440"/>
            <a:ext cx="264240" cy="430920"/>
          </a:xfrm>
          <a:prstGeom prst="bentConnector3">
            <a:avLst>
              <a:gd name="adj1" fmla="val 49931"/>
            </a:avLst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</p:cxnSp>
      <p:cxnSp>
        <p:nvCxnSpPr>
          <p:cNvPr id="951" name="AutoShape 5"/>
          <p:cNvCxnSpPr>
            <a:stCxn id="952" idx="0"/>
            <a:endCxn id="950" idx="1"/>
          </p:cNvCxnSpPr>
          <p:nvPr/>
        </p:nvCxnSpPr>
        <p:spPr>
          <a:xfrm rot="5400000">
            <a:off x="412920" y="1841040"/>
            <a:ext cx="3680280" cy="4031640"/>
          </a:xfrm>
          <a:prstGeom prst="bentConnector4">
            <a:avLst>
              <a:gd name="adj1" fmla="val -5908"/>
              <a:gd name="adj2" fmla="val 105384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3" name="AutoShape 6"/>
          <p:cNvCxnSpPr>
            <a:stCxn id="952" idx="2"/>
            <a:endCxn id="948" idx="0"/>
          </p:cNvCxnSpPr>
          <p:nvPr/>
        </p:nvCxnSpPr>
        <p:spPr>
          <a:xfrm flipH="1" rot="16200000">
            <a:off x="5658480" y="1707120"/>
            <a:ext cx="462960" cy="3242160"/>
          </a:xfrm>
          <a:prstGeom prst="bentConnector3">
            <a:avLst>
              <a:gd name="adj1" fmla="val 4980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AutoShape 7"/>
          <p:cNvCxnSpPr>
            <a:stCxn id="955" idx="0"/>
            <a:endCxn id="947" idx="1"/>
          </p:cNvCxnSpPr>
          <p:nvPr/>
        </p:nvCxnSpPr>
        <p:spPr>
          <a:xfrm flipH="1" rot="16200000">
            <a:off x="657000" y="3082680"/>
            <a:ext cx="2908800" cy="1461240"/>
          </a:xfrm>
          <a:prstGeom prst="bentConnector4">
            <a:avLst>
              <a:gd name="adj1" fmla="val -7364"/>
              <a:gd name="adj2" fmla="val 9053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AutoShape 8"/>
          <p:cNvCxnSpPr>
            <a:stCxn id="957" idx="2"/>
            <a:endCxn id="948" idx="0"/>
          </p:cNvCxnSpPr>
          <p:nvPr/>
        </p:nvCxnSpPr>
        <p:spPr>
          <a:xfrm flipH="1" rot="16200000">
            <a:off x="7092000" y="3141720"/>
            <a:ext cx="697680" cy="138600"/>
          </a:xfrm>
          <a:prstGeom prst="bentConnector3">
            <a:avLst>
              <a:gd name="adj1" fmla="val 4987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AutoShape 9"/>
          <p:cNvCxnSpPr>
            <a:stCxn id="952" idx="2"/>
            <a:endCxn id="947" idx="0"/>
          </p:cNvCxnSpPr>
          <p:nvPr/>
        </p:nvCxnSpPr>
        <p:spPr>
          <a:xfrm rot="5400000">
            <a:off x="3804480" y="3555720"/>
            <a:ext cx="923040" cy="5400"/>
          </a:xfrm>
          <a:prstGeom prst="bentConnector3">
            <a:avLst>
              <a:gd name="adj1" fmla="val 4990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5" name="AutoShape 10"/>
          <p:cNvSpPr/>
          <p:nvPr/>
        </p:nvSpPr>
        <p:spPr>
          <a:xfrm>
            <a:off x="204840" y="2383560"/>
            <a:ext cx="2351160" cy="158004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учение и информиранос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грантова схем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иоразнобразие, екосистеми, ИЧ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ъбира и въвежда данни от доброволци в НСМ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11"/>
          <p:cNvSpPr/>
          <p:nvPr/>
        </p:nvSpPr>
        <p:spPr>
          <a:xfrm>
            <a:off x="2908440" y="2033280"/>
            <a:ext cx="2719080" cy="10486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22320">
            <a:solidFill>
              <a:srgbClr val="8cbe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Двустранно/допълващ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финансиран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ърсене на партнь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такти в мре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12"/>
          <p:cNvSpPr/>
          <p:nvPr/>
        </p:nvSpPr>
        <p:spPr>
          <a:xfrm>
            <a:off x="249120" y="4936680"/>
            <a:ext cx="2318040" cy="1521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режа за инвазивни чужди видове (ИЧВ – пока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0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.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еждународен об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нно предуп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вместим с НСМБ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3"/>
          <p:cNvSpPr/>
          <p:nvPr/>
        </p:nvSpPr>
        <p:spPr>
          <a:xfrm>
            <a:off x="2852640" y="4034520"/>
            <a:ext cx="2822760" cy="246564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stretch/>
          </a:blipFill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ционална система за мониторинг на биологичното разнообрази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СМБ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дефиниран проек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ов интерактивен публичен интерфей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ови модули за ИЧВ и 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окусна точка за данните от проект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4"/>
          <p:cNvSpPr/>
          <p:nvPr/>
        </p:nvSpPr>
        <p:spPr>
          <a:xfrm>
            <a:off x="5964120" y="854280"/>
            <a:ext cx="2816280" cy="19933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екти, свързани с поли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ка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03.03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косистемен подхо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даптация към изменението на кли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енетични ресур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AutoShape 15"/>
          <p:cNvSpPr/>
          <p:nvPr/>
        </p:nvSpPr>
        <p:spPr>
          <a:xfrm>
            <a:off x="5867280" y="3573360"/>
            <a:ext cx="3286080" cy="31741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едефиниран проек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методики за оценка на екосистемите (ЕС) и потенциала за екосистемни услуги (ЕС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екти за картиране и оценка на екосистем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ка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G03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.0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Териториална оценка на ЕС и Е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критие: извъ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ATURA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ъвеждане данни в НСМБ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179280" y="176832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Фокус върху доброволчески дей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Бенефициен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учни и образователни институции, НПО, национални и местни орг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ва основни типа дей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биране на данни за НСМБР: обучение на доброволци, полева работа. Списък с родове и видове към пока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ерки за осведоменост (напр. експозиц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чаквани резулта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Качествена информация, представена в НСМБ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40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бучени доброволци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4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дейности за информира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Грантова сх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G03.S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/>
          </p:nvPr>
        </p:nvSpPr>
        <p:spPr>
          <a:xfrm>
            <a:off x="179280" y="1767960"/>
            <a:ext cx="878544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ци обучени за събиране на данни за околната среда и въвеждането им чрез публичната част на обновената Национална информационна система за мониторинг на биологично разнообразие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събиране на информация за видове от интерес, напр.: разпознаване и описване на видове, специализирана фотография, други техники (напр. фотокапани, преброяване); въвеждане и георефериране на дан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ждукултур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щуване и запознаване на чуждестранни доброволци с България (където е прилож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Грантова сх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G03.SGS 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Индикативни дейност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/>
          </p:nvPr>
        </p:nvSpPr>
        <p:spPr>
          <a:xfrm>
            <a:off x="179280" y="176832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ности за повишаване на осведомеността в резултат на малките грантове, насочени към събирането/споделянето на информация за екосистеми и/или инвазивни чужди видо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олеви дейности по събиране на данни, улавяне на ИЧВ и т.н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купуване на консумативи, дребно оборудване (напр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PS),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нни (ако е приложимо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работка и въвеждане на данни, в т.ч. лабораторни  разходи, валиди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Експозиции – ремонт/декорация, оборудване, каталогизиране и т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Грантова сх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G03.SGS 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</a:rPr>
              <a:t>Индикативни дейности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569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Фокус: регионална мрежа за ИЧ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роучвания, в т.ч. полеви дейности и устойчиво премахване, за всички съществуващи и потенциално опасни ИЧВ в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Пълни данни за официалния български списък на ИЧ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bg-BG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иж ту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 ИЧВ регла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истема за ранно предупреждение – подходящ софтуерен инструмент. Изисква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Хармонизирани методи, изисквания, данни, политики в мрежата на страните-членки за гладко функциониране на систе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5756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вместимост с НСМБР, европейската мреж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ASIN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възможност същ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OBANIS, ESPON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руги мреж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крито споделяне на информация, данни, пуб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title"/>
          </p:nvPr>
        </p:nvSpPr>
        <p:spPr>
          <a:xfrm>
            <a:off x="2484000" y="259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1: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Мрежа за обмен на информация за ИЧВ и изграждане на капац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1: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зисквания към мреж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вместни спецификации на изискванията, методики, набори данни, метаданни и т.н., уеднаквени между страните и отговарящи на националното и европейско законодателств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INSPI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струмент за автоматизирано споделяне на информация и база данни, съвместими с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N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НСМБР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вместимост с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BANI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др. е предимство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та да съдържа данни за всички ИЧВ на територията на България, потенциални ИЧВ в съседните държави, за чието разпространение има добри условия у нас;  колкото може по-пълни данни за типовете ИЧВ, описани в българското законодателство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време на проекта да се отчита новия регламент на ЕС за ИЧВ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учен списък на ИЧВ, приоритизиран на база на информацията в страните-партньори и допълнителни полеви работи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исък на ИЧВ, които партньорството счита за важни, въз основа на международни конвенции, национално законодателство, международни бази данни и/или собствените публикувани изследвания на партньор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ланове за ранно предупреждение за видовете в тези списъ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Пок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G03.01: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Индикативни допустими дей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режата за обмяна на информация за ИЧВ е активна и информацията се споделя и използ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ности за унификация на методите и резултатите между страните, членуващи в мрежата и създаването на наръч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здаване на техническа инфраструктура (напр. информационна система/портал с геореферирана база данни) за обмен на информация и проследяване на разпространението на ИЧ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здаване на база данни, въвеждане или миграция на данни, споделяне на дан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стойчиви дейности за отстраняване/унищожаване на ИЧ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следвания, проучвания и т.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209160" y="1844640"/>
            <a:ext cx="84661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Водещ партньо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МОСВ; Донорски проектен партньор: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INA,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орвег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ъществени резулта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ционални методики за биофизична оценка на екосистеми и оценка потенциала за предоставяне на екосистемни услуги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еобходими за пока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BG03.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Научна работа, работа със заинтересованите страни, изграждане на капац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title"/>
          </p:nvPr>
        </p:nvSpPr>
        <p:spPr>
          <a:xfrm>
            <a:off x="255564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ефиниран проект: Методологическа подкрепа за оценка на състоянието на екосистемите и биофизична оц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04:30Z</dcterms:created>
  <dc:creator>user_DTK</dc:creator>
  <dc:description/>
  <dc:language>en-US</dc:language>
  <cp:lastModifiedBy>nec460p</cp:lastModifiedBy>
  <dcterms:modified xsi:type="dcterms:W3CDTF">2014-06-25T14:16:14Z</dcterms:modified>
  <cp:revision>162</cp:revision>
  <dc:subject/>
  <dc:title>Slide 1</dc:title>
</cp:coreProperties>
</file>