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3CD3-C5A8-4E99-A794-9AD5786EFB4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31F7-9017-41C9-BFC0-1DE880415BE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по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сяка от програмите има по три приоритета, които са представени в следващите слайдове. Освен тях, програмите имат заделени средства за двустранни отношения, за чието използване може да се кандидатства на етап подготовка на проектите, както и по-късно – за участие в планираните дейности на ниво програма (напр. тематични конферен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дачите на Програмния оператор съгласно Регламента на ЕИП включва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я и защитава програмите (гл. 5 от Регл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жда покани, оценява и набира проекти (гл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и изпълнението на избраните проек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пустимост на разходи (гл.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ащания (гл.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ониторинг на проектите (гл. 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ередности (гл. 1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(чл. 4.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6FE-B283-465D-9527-F6963129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F30-C362-44EC-9573-43D3ADEA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7AB50-0F33-47B6-AF24-F73B2A95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A370-E1CC-4220-849A-D2386299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7022D-4FE5-4B5B-9C4F-53860EEF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040B-1791-4CA4-8D62-F155DBD3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0FF47-8EBD-409A-9A7E-83116921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31981-2410-4CEF-B8CF-7B604108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80F18-E721-4FA3-B856-60007131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4481-AFBE-44B6-AF1B-FDE42FE2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9B727-5143-4248-AF48-82363FF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C2716-481E-422C-9974-5389A442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2DF-6A92-4E36-BF12-A05C1EC1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F8801-E5AE-4B99-BCA5-B1A51F15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A8E2C-CAFA-4946-978F-0226FEE0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40EAF-494C-45BC-BE6D-2CFFDF3B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DDC1-2090-4DE2-9210-17C4C0D0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ACF15-BE07-44E0-8184-B3EBAF5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491B9-FE12-4210-A974-085C2F9A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6E2D7-C312-46E6-8E25-67256C5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13FA3-02A0-4A49-B44E-6D2D39E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2A9E4-CEFB-4733-BFDA-19766D62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8DBD-19AE-403A-8572-74EE0C85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884-6C24-4708-8D65-97B4E443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B0B97-7C22-4059-8AFE-2654C965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9FBEE-DBDA-4384-B8A4-8762ECB0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9A200-9390-4538-B737-05F139BD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315DB-604E-4CA0-BA65-0B0915B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F8DD-57B2-44A9-9365-C74F2DE4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F0672-237F-45ED-9F62-09638FD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84CCF-6156-41B6-885A-7CF28F2A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9CB35-341D-4B90-BC51-35950917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34CFF-F01C-4831-9065-0278F1E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92047-7AAC-4540-8417-030021AA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86DC1-583A-4AD2-8877-D5B1D4E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DF894-B4BF-4B64-AF96-2440CE97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37484-41C2-4EA6-ADE7-21A029DB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79B4-2D61-4AE9-BC5C-737DF398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E996-FF5B-4CA1-AF4F-E9BAC30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A49FF-D71F-40E1-976A-B8EDAC3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F738A-C9AA-4914-8B8A-3C1B9FC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BE8E2-754D-412A-ABF3-12BD7296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3BA95-6B0E-41DE-99DE-C49A1A86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62A9F-E2F1-4E10-8EAC-FFA5FA9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77DDC-E3E4-4E55-A802-D7C76BF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C9B3F-E2F7-4135-BB7B-D40280F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DFD80-E248-48BD-B5D3-C4CA2FF1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4808A-AE47-4762-8438-87EDDA7F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388B5-B049-46A1-AE40-D57FF762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266FE-CA9F-4AD4-988A-49FCE277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0275A-7C9B-40DA-89A6-78926EE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4EBFC-AAE0-4BF5-B586-F6EAA47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B6316-135C-45B5-8051-9958D85A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26DEC-8E10-40C3-8E2C-0BEF4BAD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EE98F-A60F-4215-8CC9-3C6A6FE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89EDC-A77C-405B-A8E6-5049E8A9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49648-7534-401F-A4B0-67E4A439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ECFFD-0CCD-4E16-9437-D8D7D766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EAA26-747A-4DE3-B5CF-241A44F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9296-76BB-4F0C-8B91-31A6FD0E8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D12AB-FD8F-4FDD-869C-A8658B19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C0161-9440-4B6B-9C2E-404413DA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9837E-028C-4FE9-B5E8-7361740A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F5E23-414D-4C8A-8871-4D633289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9D2D3-4452-4056-B548-4D8A2EFC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FA6CC-54AE-4621-98EA-57A139AF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879C1-AF5F-4153-B5A2-8E12E268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CAB17-3B9B-4998-91F1-7631FED8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7FB25-3007-451E-8419-E28D35B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78BC2-29F5-4959-A149-CB63B83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6A20F-0748-4EFC-A130-83B1E55E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8A5E-79BC-47A6-AFDA-43775A5E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748C6-FBD9-46BE-BF02-88720133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C636E-5DCF-46B2-B99A-B5AC37A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74F08-0FBF-4D85-BE5F-7D03B1B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C243E-8626-437D-92D0-4AF9105E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45280-A5C4-4046-9B0F-A8AA6F07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E8AA5-8901-4EF8-87CA-0151C5D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DE65E-38B1-4E29-A378-F22B6F1A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B719F-440E-4C10-A713-6FE99F8F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69CA8-AEED-45B1-9D5A-FAE44ECF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1074C-ABF5-4F91-83D9-703F99B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DBCA5-2021-459C-B5CF-143A5DF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EB22D-26C9-4C09-B955-CD9873FA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5FFB7-781B-4BDA-93D7-7884B291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A654D-E5C5-4F14-8727-160635B5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09F42-E23A-4769-B70D-D6AD10D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9F9D9-5D1E-40C4-863C-A081374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4B172D-4C07-4015-851E-2D18A36D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708C4A-95F2-48AF-BC72-D76D7FF5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EF0F0-BA70-4EC6-917D-D257A7A5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CEF94-A4CF-4825-95D7-62EC2B4E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0BD8A-184C-4DCC-BDBB-F687DDEF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4E556-5E0B-416E-A158-7E2BDE5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51E56-4D9F-4E70-BCBD-893C2F72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A0D72-D8CB-40AA-9805-1DA51891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FC8F4-BC8C-4C8A-B8B4-66ACE901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292C1D-CDB5-46AF-A1E6-DBF93A9F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1C5A4-068D-4183-AE10-EB84886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C1A29-B793-464D-A18D-327CB49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38164-6EC2-42D6-9625-3F1AEE8C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C6A48-2E7E-49A8-9E1B-2EAB61E1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47A3A-3177-4099-8A9B-56F51C5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031F8-38A3-4F1B-B579-CA97B1B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451-B6D0-420F-BB6B-CD8A285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875DE-E865-4005-985C-B9BEF6D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62EDA-A67B-486D-8E29-BAAA057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7DF1CD-336F-444A-964A-6D8D74C7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78F4A-C312-4822-9479-3BF1E999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FFFF0-1DA4-40AC-8227-AA087A8D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4A35F-F685-4CF3-9414-1FC77F27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F96FD-AC80-4985-9D8D-685C5E4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565161-7A97-44A9-A654-89C8DC73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EDBD4-1ACE-4052-A77D-5A786F91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F90F8-F973-4821-A1C1-811E493B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A5363-E1DF-4AF1-9B0F-CC12DEBE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33D6D-7E3F-4E17-B83D-6BDC5CF1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F205D6-8189-4C95-9FB0-414B763F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065F4-F880-4994-AF1A-935D267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4F46B-5F6F-433A-A53F-5AC811D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D41CF-91BF-4274-9DCE-6A630553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6989D-EF3D-41C0-A9C5-B2EA1FF2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D857D7-15C2-499C-A2A3-9E09A1F3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849F1-9DE8-4FC6-A7EE-52C25058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1376D-726D-448E-8942-958F1F16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31BA1-6149-4D8E-A646-35E17CA2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3A30F-3FB0-4DCD-A53B-8D03DA3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ECFB1-38D5-47A9-AA75-816BD92E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2C646-FBF1-4358-8E60-1C440A0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5BC24-6CD9-4CC9-8926-8E326BB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88C5CE-F949-4D99-9622-2F211F98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D394F-E16B-46C7-97DD-D709933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6F0FD-7E43-425F-9293-63DC1A36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7B449-B07B-4EC6-86DF-F6698728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57BA4-BBD2-45F3-8D7F-0C38BB04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4922A-8D7D-4471-9CE9-86C806F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EDBB2-69CA-4CA9-9D7C-681F8592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7DCF12-D41B-4416-852F-3A6457EE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A1F94-42F3-47FB-ADB0-6971FAC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A4302-EA04-4615-95E6-C3C7B51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C3150-B26C-4D36-9CB5-B88C58A9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DE922A-04E6-4817-826B-0CC8A5A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21011-6F88-4D3D-836A-4F5CF393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F6658-0D3C-4402-877E-DB02131D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2A36A8-05C1-4CC9-898A-11DE5A1C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9E25F-11E3-44AE-9D12-12014030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093C1B-35C1-4DFB-AC5C-5341E937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E29CCB-545A-4D2F-8CD1-5576B1D2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422983-694A-451E-A769-F2959C64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AB523-451F-4C27-B961-6BBAB006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CC004-B1E5-4228-A736-7E816F14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474E9-B4B4-4EF7-959B-B803F4E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645BF-25F3-40E1-902D-849D6646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62680-B438-4D1D-AF4B-841FADA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B2AF18-49EB-4C6F-BCD4-E2A10731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57CE0-0C77-44A0-A9F6-0CD28B2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7DD7ED-B187-4386-84BF-A0E84DF9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AA924-B102-46F3-9D59-4A6909DF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E147B-D86E-4E2A-8EE9-003E432D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1695F0-D793-4612-B6F4-9F1E692E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87C0F-053A-4283-9B70-5F786131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B024C-14CD-42F3-AF6C-3647BFC0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34672-3CAF-4D32-AB02-3090C396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780EF-7882-40D6-9A6D-BF342BF4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FE3D2C-1475-4A29-9342-00C111B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48D63-7D80-4382-8FAB-66ABF63D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80906-F1FD-4F28-95F9-77E306E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E07620-3162-486D-891B-C690616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CBFA2-3D6D-4E44-B22D-BE081B4D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0F30A-623C-4F17-B8DC-5865D3DA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4A9-98C1-4D6C-905F-5F7CB9D5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311F-D831-4F43-A916-2CD7F439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CC9F-B466-4FC0-AEE4-4770AF6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0A35-715C-45FE-8C89-BC786BF1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5F9-995A-444F-A736-3CD75C25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45B8-0C57-4921-9F2A-B5991E2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15F8-0FB8-4469-BCB8-FFD9938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3147-E5EC-454E-B6D0-279256DA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8748-3084-44A4-99D1-7856BE26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5778-21EE-4E9B-AD71-F7D3E13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F15-1D2B-4906-9A38-2B31BABA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DB4F-1C92-4DD3-94E6-741B5DE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F465-E278-44EF-A859-F4C8D2D8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30BD-4047-403C-8558-0A3CCB62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4A6E-7F68-404F-A646-8B71A62F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3A6-B8F7-4A1C-9A6F-A50EF004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F271-9818-4A54-91DD-A4A9B24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7FA5-A4A9-496C-B557-168EDF3A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F1982-1762-40B2-A0A1-C1A79BF0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28F4-1CD0-45AB-87F5-48AC9B7A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7E08-9CC4-4D79-AEA3-A811B596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9298-3EA7-41E1-962A-8D84C307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8795-351B-4A3A-AC89-CE8696D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D200-1EDB-4711-878F-1A691F7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339B-D906-4D3B-995D-0D2C464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C624-B51D-477E-B5D6-3FEC489E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F32-83ED-4D1C-8ADB-C98A0AD0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BFBE4-85B4-49CC-8E5C-29D06CBD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8F10-1E68-4719-9AFE-3C5372AD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27726-CCF2-4854-AEBD-1631D4CE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06D8-AB48-47D1-9333-05F723EA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74E4-C281-41C5-9CEF-19B9D7E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629F0-A408-4DE0-BF57-3ADEA4D4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BE9A-1CD0-415D-8623-C3AF898E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1741-E4D4-45CD-B4FB-761DAE04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294A-37B2-4065-8B18-7D7CFD0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C9541-AFBC-440E-8B6E-8DF24C9E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2FB-0D07-4CF9-A6F9-14B82C3C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7481-88D9-437D-904E-08565F71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6959-457E-43E9-90FF-76582C33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A29F-C9BE-4E78-98E6-4400E6EA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61068-6394-441D-AAD1-90A797F2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C6A9-112A-4AA8-BAE6-61C011AC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ABCE5-6723-4CD4-BBAD-CB22B69A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D1B9-393D-4B5A-AFB2-9D754E2C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1B06-7E68-4965-BBA9-B5F1E0E9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BE3C0-F6CD-4496-A8EF-A88CDABD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FB957-F3C6-4B03-A643-B7217631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154-F823-4DB3-B6BE-C699A33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5D36-9D16-425B-A0B8-DD0DD866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760BB-79A0-4319-9BBC-88FCE5C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145E-0D72-483B-9912-85E477F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28A48-BF3D-4FE5-9821-D268C3E7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00CB0-2C28-4A3E-AE86-955FB84A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E937-865D-4FE5-BCED-54761E4E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3BFE4-1021-43E9-8525-EDAB05C6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A6E5-1CAA-4DF3-A944-FAD15C0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4EACF-7DC6-4617-BB02-D9AD5850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1E26F-7A9B-40B6-BD6B-80CC404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ADD-A2BA-4805-AEA7-473A26F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8F4F-8C33-4660-AECA-262387C5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0978-F8F9-4A2E-AE6F-EC0CB42E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549D-3CC8-405E-BC9F-09F15C6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20FCA-7C8D-45FD-990A-DEDB00DD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295F6-AFF8-4A81-A838-632FB255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B6787-7FB9-4E0E-B2B5-87CDEE2D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D23DF-D0FF-45DE-A92D-B9012A1D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069B6-7861-46AC-90D2-05428B0E0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6E604-E160-46BC-841A-6E7BE8CC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00FC-EDA1-48BB-9E10-667F5987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EEA-72D7-497C-94E3-A8B76ADECC9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BDD5-8CF8-4BF8-B076-184CF37B8E8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8" descr="EEA Logo"/>
          <p:cNvPicPr/>
          <p:nvPr/>
        </p:nvPicPr>
        <p:blipFill>
          <a:blip r:embed="rId4"/>
          <a:stretch/>
        </p:blipFill>
        <p:spPr>
          <a:xfrm>
            <a:off x="250920" y="-27792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gerb"/>
          <p:cNvPicPr/>
          <p:nvPr/>
        </p:nvPicPr>
        <p:blipFill>
          <a:blip r:embed="rId5"/>
          <a:stretch/>
        </p:blipFill>
        <p:spPr>
          <a:xfrm>
            <a:off x="1619280" y="-15732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932F-BA10-4DEA-AAA4-7CDE6B5C40D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21AA-A056-4273-91C7-20C6BE34661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3794-C2E9-4CA8-A957-1462BE8BB76F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713-805C-4927-94F0-8D6C29F8E92E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5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5255-A067-46EF-9B95-0C4A39F8794A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3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4D5-19E2-47AF-BE60-BB9D1E32012C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68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F532-B906-48CB-83C6-DBF86B1CE039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9" descr=""/>
          <p:cNvPicPr/>
          <p:nvPr/>
        </p:nvPicPr>
        <p:blipFill>
          <a:blip r:embed="rId5"/>
          <a:stretch/>
        </p:blipFill>
        <p:spPr>
          <a:xfrm>
            <a:off x="2903400" y="5526000"/>
            <a:ext cx="1105200" cy="9320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gerb"/>
          <p:cNvPicPr/>
          <p:nvPr/>
        </p:nvPicPr>
        <p:blipFill>
          <a:blip r:embed="rId6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25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D05-B84C-4085-88B5-B79210C9F67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768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477B-591F-4632-BB26-25F09EF4BA94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4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EEA Logo"/>
          <p:cNvPicPr/>
          <p:nvPr/>
        </p:nvPicPr>
        <p:blipFill>
          <a:blip r:embed="rId4"/>
          <a:stretch/>
        </p:blipFill>
        <p:spPr>
          <a:xfrm>
            <a:off x="324000" y="-3160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gerb"/>
          <p:cNvPicPr/>
          <p:nvPr/>
        </p:nvPicPr>
        <p:blipFill>
          <a:blip r:embed="rId5"/>
          <a:stretch/>
        </p:blipFill>
        <p:spPr>
          <a:xfrm>
            <a:off x="1692360" y="-19512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11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3C6-E7C9-4032-AC14-E4472704B420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5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5" name="Image 5" descr="LogosEEAgrantsNORWAYgrants_CMJN.emf"/>
          <p:cNvPicPr/>
          <p:nvPr/>
        </p:nvPicPr>
        <p:blipFill>
          <a:blip r:embed="rId4"/>
          <a:stretch/>
        </p:blipFill>
        <p:spPr>
          <a:xfrm>
            <a:off x="735120" y="447840"/>
            <a:ext cx="2496960" cy="72072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055-23B2-492D-8629-69C5F4830CF8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96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689-E221-4F19-8A93-56C464905D7D}" type="slidenum">
              <a:rPr b="0" lang="fr-F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Picture 8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9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279360" y="0"/>
            <a:ext cx="8572680" cy="6845400"/>
          </a:xfrm>
          <a:prstGeom prst="rect">
            <a:avLst/>
          </a:prstGeom>
          <a:ln w="0">
            <a:noFill/>
          </a:ln>
        </p:spPr>
      </p:pic>
      <p:pic>
        <p:nvPicPr>
          <p:cNvPr id="84" name="Image 10" descr=""/>
          <p:cNvPicPr/>
          <p:nvPr/>
        </p:nvPicPr>
        <p:blipFill>
          <a:blip r:embed="rId3"/>
          <a:stretch/>
        </p:blipFill>
        <p:spPr>
          <a:xfrm>
            <a:off x="-404640" y="-426960"/>
            <a:ext cx="9956520" cy="254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EEA Logo"/>
          <p:cNvPicPr/>
          <p:nvPr/>
        </p:nvPicPr>
        <p:blipFill>
          <a:blip r:embed="rId4"/>
          <a:stretch/>
        </p:blipFill>
        <p:spPr>
          <a:xfrm>
            <a:off x="250920" y="26028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gerb"/>
          <p:cNvPicPr/>
          <p:nvPr/>
        </p:nvPicPr>
        <p:blipFill>
          <a:blip r:embed="rId5"/>
          <a:stretch/>
        </p:blipFill>
        <p:spPr>
          <a:xfrm>
            <a:off x="1619280" y="38088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B8D-77DA-4950-BDFC-4FE50B5AE812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861D-DE62-498E-9B71-665386A135A5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EEA Logo"/>
          <p:cNvPicPr/>
          <p:nvPr/>
        </p:nvPicPr>
        <p:blipFill>
          <a:blip r:embed="rId4"/>
          <a:stretch/>
        </p:blipFill>
        <p:spPr>
          <a:xfrm>
            <a:off x="32400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gerb"/>
          <p:cNvPicPr/>
          <p:nvPr/>
        </p:nvPicPr>
        <p:blipFill>
          <a:blip r:embed="rId5"/>
          <a:stretch/>
        </p:blipFill>
        <p:spPr>
          <a:xfrm>
            <a:off x="169236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7FDE-53F4-4A87-9E7D-C2949EC8A6A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BBB7-74C7-4DBD-A212-485C6976FDBD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67C6-86E6-44FF-A478-0CB60912A39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8" descr="EEA Logo"/>
          <p:cNvPicPr/>
          <p:nvPr/>
        </p:nvPicPr>
        <p:blipFill>
          <a:blip r:embed="rId4"/>
          <a:stretch/>
        </p:blipFill>
        <p:spPr>
          <a:xfrm>
            <a:off x="250920" y="-171360"/>
            <a:ext cx="1152360" cy="912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gerb"/>
          <p:cNvPicPr/>
          <p:nvPr/>
        </p:nvPicPr>
        <p:blipFill>
          <a:blip r:embed="rId5"/>
          <a:stretch/>
        </p:blipFill>
        <p:spPr>
          <a:xfrm>
            <a:off x="1619280" y="-50760"/>
            <a:ext cx="100800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8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Image 8" descr=""/>
          <p:cNvPicPr/>
          <p:nvPr/>
        </p:nvPicPr>
        <p:blipFill>
          <a:blip r:embed="rId2"/>
          <a:stretch/>
        </p:blipFill>
        <p:spPr>
          <a:xfrm>
            <a:off x="291960" y="139680"/>
            <a:ext cx="8547120" cy="65786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1" descr=""/>
          <p:cNvPicPr/>
          <p:nvPr/>
        </p:nvPicPr>
        <p:blipFill>
          <a:blip r:embed="rId3"/>
          <a:stretch/>
        </p:blipFill>
        <p:spPr>
          <a:xfrm>
            <a:off x="-404640" y="-1000080"/>
            <a:ext cx="9956520" cy="2549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B0CE-07A7-45CC-8A4E-BBC8482E5CD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8" descr="EEA Logo"/>
          <p:cNvPicPr/>
          <p:nvPr/>
        </p:nvPicPr>
        <p:blipFill>
          <a:blip r:embed="rId4"/>
          <a:stretch/>
        </p:blipFill>
        <p:spPr>
          <a:xfrm>
            <a:off x="250920" y="-243000"/>
            <a:ext cx="1152360" cy="9129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gerb"/>
          <p:cNvPicPr/>
          <p:nvPr/>
        </p:nvPicPr>
        <p:blipFill>
          <a:blip r:embed="rId5"/>
          <a:stretch/>
        </p:blipFill>
        <p:spPr>
          <a:xfrm>
            <a:off x="1619280" y="-122400"/>
            <a:ext cx="1008000" cy="84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ew.government.bg/?show=123" TargetMode="External"/><Relationship Id="rId2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eea@moew.government.bg" TargetMode="External"/><Relationship Id="rId2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907560" y="3784680"/>
            <a:ext cx="702972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Конференция за откриване на програми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и създаване на партньорства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офия, 25.06.2014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526680" y="2060280"/>
            <a:ext cx="807732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редставяне и обща информация по програми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G02, BG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Rectangle 4"/>
          <p:cNvSpPr/>
          <p:nvPr/>
        </p:nvSpPr>
        <p:spPr>
          <a:xfrm>
            <a:off x="185760" y="1844640"/>
            <a:ext cx="8675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ена интеграция на съображения, свързани с биологичното разнообразие, в секторните политики и законодател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02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Картиране и оценка на екосистемни услуг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бюдже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195 236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50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8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3 Секторни политики за системното използване на екосистемните услуг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бюдже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проекти межд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0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300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Допустими кандидати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ционални публични органи, общини, научни и образователни организации, в т.ч. университети,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Всички избрани проекти трябва да предоставят информация в Националната система за мониторинг на биологичното разнообразие (НСМБР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Срок за подаване на проектите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3 месеца за всички по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G02.03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ще стартира след уточняване на националния подход и методики (предмет на стратегически проект по програмата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8"/>
          <p:cNvSpPr/>
          <p:nvPr/>
        </p:nvSpPr>
        <p:spPr>
          <a:xfrm>
            <a:off x="468360" y="4726080"/>
            <a:ext cx="8207280" cy="2016000"/>
          </a:xfrm>
          <a:prstGeom prst="rect">
            <a:avLst/>
          </a:prstGeom>
          <a:solidFill>
            <a:srgbClr val="669900">
              <a:alpha val="47000"/>
            </a:srgbClr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6"/>
          <p:cNvSpPr/>
          <p:nvPr/>
        </p:nvSpPr>
        <p:spPr>
          <a:xfrm>
            <a:off x="466560" y="3502080"/>
            <a:ext cx="8207640" cy="1224000"/>
          </a:xfrm>
          <a:prstGeom prst="rect">
            <a:avLst/>
          </a:prstGeom>
          <a:solidFill>
            <a:srgbClr val="cc0000">
              <a:alpha val="47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468360" y="1557360"/>
            <a:ext cx="8207280" cy="1944720"/>
          </a:xfrm>
          <a:prstGeom prst="rect">
            <a:avLst/>
          </a:prstGeom>
          <a:solidFill>
            <a:srgbClr val="c0504d">
              <a:alpha val="39000"/>
            </a:srgbClr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347640" y="274680"/>
            <a:ext cx="52563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Следващи стъп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AutoShape 5"/>
          <p:cNvSpPr/>
          <p:nvPr/>
        </p:nvSpPr>
        <p:spPr>
          <a:xfrm>
            <a:off x="619200" y="1935000"/>
            <a:ext cx="4089240" cy="57636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добрени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каните от дон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0"/>
          <p:cNvSpPr/>
          <p:nvPr/>
        </p:nvSpPr>
        <p:spPr>
          <a:xfrm>
            <a:off x="611280" y="414972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азяс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1"/>
          <p:cNvSpPr/>
          <p:nvPr/>
        </p:nvSpPr>
        <p:spPr>
          <a:xfrm>
            <a:off x="4068720" y="386244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даване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3"/>
          <p:cNvSpPr/>
          <p:nvPr/>
        </p:nvSpPr>
        <p:spPr>
          <a:xfrm>
            <a:off x="603360" y="2662200"/>
            <a:ext cx="4105080" cy="50472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убликуване на пока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7"/>
          <p:cNvSpPr/>
          <p:nvPr/>
        </p:nvSpPr>
        <p:spPr>
          <a:xfrm>
            <a:off x="625320" y="4869000"/>
            <a:ext cx="4883400" cy="50472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8"/>
          <p:cNvSpPr/>
          <p:nvPr/>
        </p:nvSpPr>
        <p:spPr>
          <a:xfrm>
            <a:off x="611280" y="5446800"/>
            <a:ext cx="496872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ласиране на проек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ъздаване на резервен спис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19"/>
          <p:cNvSpPr/>
          <p:nvPr/>
        </p:nvSpPr>
        <p:spPr>
          <a:xfrm>
            <a:off x="611280" y="6021360"/>
            <a:ext cx="4968720" cy="57636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ключване на договори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5148360" y="1770120"/>
            <a:ext cx="33004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Индикативно: юли 2014  з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2,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грантова схема и покани 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Втора половина на 2014 з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BG03,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пока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7"/>
          <p:cNvSpPr/>
          <p:nvPr/>
        </p:nvSpPr>
        <p:spPr>
          <a:xfrm>
            <a:off x="5375160" y="3984480"/>
            <a:ext cx="33116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Октомвр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5364000" y="5373720"/>
            <a:ext cx="331164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 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(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Декемвр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15"/>
          <p:cNvSpPr/>
          <p:nvPr/>
        </p:nvSpPr>
        <p:spPr>
          <a:xfrm>
            <a:off x="611280" y="3573360"/>
            <a:ext cx="2808360" cy="503280"/>
          </a:xfrm>
          <a:prstGeom prst="flowChartProcess">
            <a:avLst/>
          </a:prstGeom>
          <a:gradFill rotWithShape="0">
            <a:gsLst>
              <a:gs pos="0">
                <a:srgbClr val="ffff00"/>
              </a:gs>
              <a:gs pos="50000">
                <a:srgbClr val="f1f9a5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бор на независ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оценит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2"/>
          <p:cNvSpPr/>
          <p:nvPr/>
        </p:nvSpPr>
        <p:spPr>
          <a:xfrm>
            <a:off x="2916360" y="115920"/>
            <a:ext cx="58323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Актуална информ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"/>
          <p:cNvSpPr/>
          <p:nvPr/>
        </p:nvSpPr>
        <p:spPr>
          <a:xfrm>
            <a:off x="611280" y="1989000"/>
            <a:ext cx="755964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ограмен оператор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Министерство на околната среда и водите, дирекция „Координация по въпросите на ЕС и международно сътрудничество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Адрес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офия 1000, ул. „Ул. Гладстон“ №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Телефон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+359 2 940 65 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Факс: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+359 2 940 62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Интернет страница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програмния опера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oew.government.bg/?show=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2637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ea@moew.government.b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ериод 2007-2009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Общ размер на помощта 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– 41,5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о ФМ на Европейското икономическо пространство - успешно изпълнени 9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а в сектор «Околна среда» на обща стойност 4,14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По Норвежката програма за сътрудничество - успешно изпълн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проекта в сектор «Околна среда»  на обща стойност 2,37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348000" y="2599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Период 2009-2014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Общ размер на помощта 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– 126,6 млн. евр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Сектор „Околна среда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ФМ на Европейското икономическо пространство – две прогр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02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„Интегрирано управление на морските и вътрешните води“ –  8 млн. евр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„Биоразнообразие и екосистемни услуги“ –  8 млн. евр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бласт Околна среда, МОСВ е определено за програмен оператор (ПО) Донорски програмен партньор по двете програми -Норвежката агенцията за околна среда (N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987280" y="414000"/>
            <a:ext cx="5699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Цели на ФМ на ЕИП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2009-2014 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95280" y="2610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на Финансовия механизъ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аляване на икономическото и социално неравен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на двустранните отно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91636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риоритетни сектори за сътрудниче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539640" y="233172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и управление на околната сре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мени в клим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ъзобновяеми енергийни източниц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жданско общ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овешко и социално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азване на културното насл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20328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Нормативна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уредб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Меморандум за разбирател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ламент и приложения към не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Европейско и национално законодателство, в т.ч.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опазване на околната среда, Закон за водите, Законза биологичното разнообразие и поднормативна уред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обществените поръчки/ПМС 69.201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он за държавните помощ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ово, счетоводно, да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ъчно законодател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855520" y="333000"/>
            <a:ext cx="588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онална рам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AutoShape 13"/>
          <p:cNvSpPr/>
          <p:nvPr/>
        </p:nvSpPr>
        <p:spPr>
          <a:xfrm>
            <a:off x="539640" y="1700280"/>
            <a:ext cx="825516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2"/>
          <p:cNvSpPr/>
          <p:nvPr/>
        </p:nvSpPr>
        <p:spPr>
          <a:xfrm>
            <a:off x="141120" y="3735360"/>
            <a:ext cx="8858520" cy="2533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4"/>
          <p:cNvSpPr/>
          <p:nvPr/>
        </p:nvSpPr>
        <p:spPr>
          <a:xfrm>
            <a:off x="1839960" y="2822400"/>
            <a:ext cx="2690640" cy="309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Национално контактно звено - 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5"/>
          <p:cNvSpPr/>
          <p:nvPr/>
        </p:nvSpPr>
        <p:spPr>
          <a:xfrm>
            <a:off x="2913120" y="1805040"/>
            <a:ext cx="3251160" cy="5634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Комитет на финансовия механизъм на ЕИ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фис на финансовия механизъм на ЕИ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6"/>
          <p:cNvSpPr/>
          <p:nvPr/>
        </p:nvSpPr>
        <p:spPr>
          <a:xfrm>
            <a:off x="4927680" y="2836800"/>
            <a:ext cx="2268360" cy="311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Сертифициращ орган - М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7"/>
          <p:cNvSpPr/>
          <p:nvPr/>
        </p:nvSpPr>
        <p:spPr>
          <a:xfrm>
            <a:off x="6227640" y="3278160"/>
            <a:ext cx="2268720" cy="3110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дитен орган – ИА ОС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8"/>
          <p:cNvSpPr/>
          <p:nvPr/>
        </p:nvSpPr>
        <p:spPr>
          <a:xfrm>
            <a:off x="3325680" y="3800520"/>
            <a:ext cx="2268720" cy="314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грамен опер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9"/>
          <p:cNvSpPr/>
          <p:nvPr/>
        </p:nvSpPr>
        <p:spPr>
          <a:xfrm>
            <a:off x="1055520" y="4732200"/>
            <a:ext cx="22687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Project 1 (predefin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10"/>
          <p:cNvSpPr/>
          <p:nvPr/>
        </p:nvSpPr>
        <p:spPr>
          <a:xfrm>
            <a:off x="952560" y="4732200"/>
            <a:ext cx="237168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екти 1,2 (предефиниран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11"/>
          <p:cNvSpPr/>
          <p:nvPr/>
        </p:nvSpPr>
        <p:spPr>
          <a:xfrm>
            <a:off x="3532320" y="4732200"/>
            <a:ext cx="22669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роекти 3… n (от поканит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2"/>
          <p:cNvSpPr/>
          <p:nvPr/>
        </p:nvSpPr>
        <p:spPr>
          <a:xfrm>
            <a:off x="6008760" y="4732200"/>
            <a:ext cx="2266920" cy="3128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Дейности на ниво прогр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3"/>
          <p:cNvSpPr/>
          <p:nvPr/>
        </p:nvSpPr>
        <p:spPr>
          <a:xfrm>
            <a:off x="212760" y="5450040"/>
            <a:ext cx="115092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4"/>
          <p:cNvSpPr/>
          <p:nvPr/>
        </p:nvSpPr>
        <p:spPr>
          <a:xfrm>
            <a:off x="1403280" y="5450040"/>
            <a:ext cx="168588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15"/>
          <p:cNvSpPr/>
          <p:nvPr/>
        </p:nvSpPr>
        <p:spPr>
          <a:xfrm>
            <a:off x="4927680" y="2368440"/>
            <a:ext cx="619200" cy="4539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4" name="AutoShape 16"/>
          <p:cNvCxnSpPr>
            <a:stCxn id="968" idx="2"/>
            <a:endCxn id="971" idx="0"/>
          </p:cNvCxnSpPr>
          <p:nvPr/>
        </p:nvCxnSpPr>
        <p:spPr>
          <a:xfrm rot="5400000">
            <a:off x="1259640" y="4571640"/>
            <a:ext cx="405720" cy="1351800"/>
          </a:xfrm>
          <a:prstGeom prst="bentConnector3">
            <a:avLst>
              <a:gd name="adj1" fmla="val 50000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5" name="AutoShape 17"/>
          <p:cNvCxnSpPr>
            <a:stCxn id="968" idx="2"/>
            <a:endCxn id="972" idx="0"/>
          </p:cNvCxnSpPr>
          <p:nvPr/>
        </p:nvCxnSpPr>
        <p:spPr>
          <a:xfrm flipH="1" rot="16200000">
            <a:off x="1989720" y="5193000"/>
            <a:ext cx="40572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6" name="AutoShape 18"/>
          <p:cNvCxnSpPr>
            <a:stCxn id="969" idx="2"/>
            <a:endCxn id="977" idx="0"/>
          </p:cNvCxnSpPr>
          <p:nvPr/>
        </p:nvCxnSpPr>
        <p:spPr>
          <a:xfrm rot="5400000">
            <a:off x="3987720" y="4777560"/>
            <a:ext cx="410400" cy="94536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78" name="AutoShape 19"/>
          <p:cNvCxnSpPr>
            <a:stCxn id="969" idx="2"/>
            <a:endCxn id="979" idx="0"/>
          </p:cNvCxnSpPr>
          <p:nvPr/>
        </p:nvCxnSpPr>
        <p:spPr>
          <a:xfrm flipH="1" rot="16200000">
            <a:off x="4732200" y="4977360"/>
            <a:ext cx="410400" cy="54540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80" name="AutoShape 20"/>
          <p:cNvCxnSpPr>
            <a:stCxn id="970" idx="2"/>
            <a:endCxn id="981" idx="0"/>
          </p:cNvCxnSpPr>
          <p:nvPr/>
        </p:nvCxnSpPr>
        <p:spPr>
          <a:xfrm rot="5400000">
            <a:off x="6693480" y="5006880"/>
            <a:ext cx="410400" cy="48636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982" name="AutoShape 21"/>
          <p:cNvCxnSpPr/>
          <p:nvPr/>
        </p:nvCxnSpPr>
        <p:spPr>
          <a:xfrm flipH="1" rot="16200000">
            <a:off x="7257240" y="4862880"/>
            <a:ext cx="410400" cy="774000"/>
          </a:xfrm>
          <a:prstGeom prst="bentConnector3">
            <a:avLst>
              <a:gd name="adj1" fmla="val 49956"/>
            </a:avLst>
          </a:prstGeom>
          <a:ln w="1260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983" name="Line 22"/>
          <p:cNvSpPr/>
          <p:nvPr/>
        </p:nvSpPr>
        <p:spPr>
          <a:xfrm flipH="1">
            <a:off x="1363680" y="4114800"/>
            <a:ext cx="309888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23"/>
          <p:cNvSpPr/>
          <p:nvPr/>
        </p:nvSpPr>
        <p:spPr>
          <a:xfrm flipH="1">
            <a:off x="4253040" y="4114800"/>
            <a:ext cx="20952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24"/>
          <p:cNvSpPr/>
          <p:nvPr/>
        </p:nvSpPr>
        <p:spPr>
          <a:xfrm>
            <a:off x="4460760" y="4114800"/>
            <a:ext cx="1960560" cy="617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25"/>
          <p:cNvSpPr/>
          <p:nvPr/>
        </p:nvSpPr>
        <p:spPr>
          <a:xfrm flipV="1">
            <a:off x="2603520" y="4113360"/>
            <a:ext cx="928800" cy="620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6"/>
          <p:cNvSpPr/>
          <p:nvPr/>
        </p:nvSpPr>
        <p:spPr>
          <a:xfrm flipH="1" flipV="1">
            <a:off x="4145040" y="4122720"/>
            <a:ext cx="317520" cy="61128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7"/>
          <p:cNvSpPr/>
          <p:nvPr/>
        </p:nvSpPr>
        <p:spPr>
          <a:xfrm flipH="1" flipV="1">
            <a:off x="5284440" y="4113360"/>
            <a:ext cx="1344600" cy="62064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8"/>
          <p:cNvSpPr/>
          <p:nvPr/>
        </p:nvSpPr>
        <p:spPr>
          <a:xfrm flipV="1">
            <a:off x="3692520" y="3146400"/>
            <a:ext cx="1440" cy="58896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9"/>
          <p:cNvSpPr/>
          <p:nvPr/>
        </p:nvSpPr>
        <p:spPr>
          <a:xfrm flipV="1">
            <a:off x="5187960" y="3146400"/>
            <a:ext cx="15840" cy="65232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30"/>
          <p:cNvSpPr/>
          <p:nvPr/>
        </p:nvSpPr>
        <p:spPr>
          <a:xfrm flipV="1">
            <a:off x="3692520" y="2367000"/>
            <a:ext cx="1440" cy="311040"/>
          </a:xfrm>
          <a:prstGeom prst="line">
            <a:avLst/>
          </a:prstGeom>
          <a:ln w="1015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1"/>
          <p:cNvSpPr/>
          <p:nvPr/>
        </p:nvSpPr>
        <p:spPr>
          <a:xfrm>
            <a:off x="539640" y="5383080"/>
            <a:ext cx="8255160" cy="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-38160" bIns="-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32"/>
          <p:cNvSpPr/>
          <p:nvPr/>
        </p:nvSpPr>
        <p:spPr>
          <a:xfrm flipH="1" flipV="1">
            <a:off x="6030720" y="3146400"/>
            <a:ext cx="1236600" cy="13176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33"/>
          <p:cNvSpPr/>
          <p:nvPr/>
        </p:nvSpPr>
        <p:spPr>
          <a:xfrm flipH="1" flipV="1">
            <a:off x="3754440" y="3146400"/>
            <a:ext cx="2473200" cy="26208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34"/>
          <p:cNvSpPr/>
          <p:nvPr/>
        </p:nvSpPr>
        <p:spPr>
          <a:xfrm>
            <a:off x="5251320" y="3147840"/>
            <a:ext cx="262080" cy="650880"/>
          </a:xfrm>
          <a:prstGeom prst="downArrow">
            <a:avLst>
              <a:gd name="adj1" fmla="val 50000"/>
              <a:gd name="adj2" fmla="val 62088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35"/>
          <p:cNvSpPr/>
          <p:nvPr/>
        </p:nvSpPr>
        <p:spPr>
          <a:xfrm>
            <a:off x="961920" y="2479680"/>
            <a:ext cx="649440" cy="130320"/>
          </a:xfrm>
          <a:prstGeom prst="rightArrow">
            <a:avLst>
              <a:gd name="adj1" fmla="val 50000"/>
              <a:gd name="adj2" fmla="val 124586"/>
            </a:avLst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24120" bIns="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36"/>
          <p:cNvSpPr/>
          <p:nvPr/>
        </p:nvSpPr>
        <p:spPr>
          <a:xfrm>
            <a:off x="961920" y="2335320"/>
            <a:ext cx="649440" cy="14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38"/>
          <p:cNvSpPr/>
          <p:nvPr/>
        </p:nvSpPr>
        <p:spPr>
          <a:xfrm>
            <a:off x="3135240" y="5454720"/>
            <a:ext cx="117000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39"/>
          <p:cNvSpPr/>
          <p:nvPr/>
        </p:nvSpPr>
        <p:spPr>
          <a:xfrm>
            <a:off x="4357800" y="5454720"/>
            <a:ext cx="170496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0"/>
          <p:cNvSpPr/>
          <p:nvPr/>
        </p:nvSpPr>
        <p:spPr>
          <a:xfrm>
            <a:off x="6081840" y="5454720"/>
            <a:ext cx="1147680" cy="579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Външни изпълн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AutoShape 41"/>
          <p:cNvSpPr/>
          <p:nvPr/>
        </p:nvSpPr>
        <p:spPr>
          <a:xfrm>
            <a:off x="7267680" y="5433840"/>
            <a:ext cx="1712880" cy="5796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3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Разходи за заплати, пътувания и т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7"/>
          <p:cNvSpPr/>
          <p:nvPr/>
        </p:nvSpPr>
        <p:spPr>
          <a:xfrm>
            <a:off x="7461360" y="2316240"/>
            <a:ext cx="1230120" cy="7682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2120" bIns="421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Други контролни орг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2"/>
          <p:cNvSpPr/>
          <p:nvPr/>
        </p:nvSpPr>
        <p:spPr>
          <a:xfrm flipH="1" flipV="1">
            <a:off x="6161040" y="2238120"/>
            <a:ext cx="1300320" cy="3236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9"/>
          <p:cNvSpPr/>
          <p:nvPr/>
        </p:nvSpPr>
        <p:spPr>
          <a:xfrm flipV="1">
            <a:off x="4651200" y="2368440"/>
            <a:ext cx="16200" cy="143208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29"/>
          <p:cNvSpPr/>
          <p:nvPr/>
        </p:nvSpPr>
        <p:spPr>
          <a:xfrm flipH="1">
            <a:off x="3173040" y="2627280"/>
            <a:ext cx="4287960" cy="19512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29"/>
          <p:cNvSpPr/>
          <p:nvPr/>
        </p:nvSpPr>
        <p:spPr>
          <a:xfrm flipH="1">
            <a:off x="7203600" y="2627280"/>
            <a:ext cx="257400" cy="3920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37"/>
          <p:cNvSpPr/>
          <p:nvPr/>
        </p:nvSpPr>
        <p:spPr>
          <a:xfrm>
            <a:off x="755640" y="1773360"/>
            <a:ext cx="17668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Леге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Отчет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 Narrow"/>
              </a:rPr>
              <a:t>Плащ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179280" y="1960560"/>
            <a:ext cx="8823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ано управление на ресурсите от морски и вътрешни води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2.01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 бюдж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2 8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00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17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4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ен мониторинг на морските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G02.02: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юджет  2 800 000 EUR, проекти между 170 000 и 2 400 000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ен капацитет за оценка и предвиждане на екологичния статус на морските и вътрешни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2.0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юджет  1 400 000 EUR, проекти между 170 000 и 1 200 000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Допустими кандидати: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ционални публични органи, общини, научно-изследователски организации, в т.ч. университети,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Срок за подаване на проектите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3 месеца за всички пок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Покани по програм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G0</a:t>
            </a: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Rectangle 4"/>
          <p:cNvSpPr/>
          <p:nvPr/>
        </p:nvSpPr>
        <p:spPr>
          <a:xfrm>
            <a:off x="179280" y="1916280"/>
            <a:ext cx="864072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1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личено познаване на и образование по въпросите на биологичното разнообразие и екосистемни услуги, в т.ч. познаване на и образование относно връзката между биологичното разнообразие и изменението на климата, както и на икономическата оценка на екосистем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Малка грантова схем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G03.SGS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- Национална кампания за осведоменост и образование чрез доброволчески дейности и подкрепящи действия с бюдже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0 000 EUR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екти меж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5 000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000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риорите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ишена защита на местните екосистеми срещу инвазивни чужди видове (ИЧ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G03.01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- Мрежа за работа с инвазивните чужди видове, за обмен на информация и изграждане на капацитет, бюджет на поканат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80 000 EUR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ще бъде избрано едно партньорство за създаване на регионална мреж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проучване и ранно предупреждение за ИЧ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1:04:30Z</dcterms:created>
  <dc:creator>user_DTK</dc:creator>
  <dc:description/>
  <dc:language>en-US</dc:language>
  <cp:lastModifiedBy>ASotirov</cp:lastModifiedBy>
  <dcterms:modified xsi:type="dcterms:W3CDTF">2014-06-24T14:59:06Z</dcterms:modified>
  <cp:revision>152</cp:revision>
  <dc:subject/>
  <dc:title>Slide 1</dc:title>
</cp:coreProperties>
</file>