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92A-FC1B-4405-B5B4-EDB791E8AC0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D7F-1549-4D28-BDC2-ACFE33692AE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по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сяка от програмите има по три приоритета, които са представени в следващите слайдове. Освен тях, програмите имат заделени средства за двустранни отношения, за чието използване може да се кандидатства на етап подготовка на проектите, както и по-късно – за участие в планираните дейности на ниво програма (напр. тематични конферен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дачите на Програмния оператор съгласно Регламента на ЕИП включв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я и защитава програмите (гл. 5 от Регл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жда покани, оценява и набира проекти (гл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и изпълнението на избраните проек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пустимост на разходи (гл.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ащания (гл.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ониторинг на проектите (гл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ередности (гл. 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(чл. 4.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84AA-B932-42F8-9D43-32E8A75F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6F0-A82D-49CC-8182-47ABC638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6FB9-E73B-4A57-A7D9-F697AF60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AFF88-A836-4235-889F-2789D1A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908DC-3167-4AC8-8BC7-34A4BD4D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593D-08A8-4201-9D3D-5569BEBA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F00DF-CA50-4984-843B-B35DB042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6BED2-A28A-4090-B173-5C96FA6D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6DAC6-289D-4452-AE99-33CFCEED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AFE27-ECDF-4AC4-97DF-B969906E0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05E29-18CB-4026-BA76-CEDBEA0F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44D18-5441-4EE3-98F6-C8CD67B0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66D-0F7D-4107-86C5-2C69D8C9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A2E8C-BBF8-4481-8206-E0C9B965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4B0B4-3FCF-4BF1-BAEA-8B646D3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45E64-358D-4011-B513-C3DD257F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8165-C51C-4231-AD1A-F258F45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D9E9-E3DA-46F4-BAD4-BF5C2C9F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30580-BC47-4224-B4D0-29BF33BF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7214-D3AB-4BCF-BA95-DD65E98F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CF501-29C3-4737-B778-FFCAE3D2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23A0B-6496-48F8-9189-E24FF111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EDFF1-4511-4BDB-A604-4086C266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768-624C-478D-A21B-BF78A5E9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B0C42-3BCB-4538-A2DA-F4098318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CA8E3-6F9C-48CC-97CF-16EA68CB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0693C-30CF-4ABA-B636-7AC7EED0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760A5-3FB1-47A0-94F8-99B62F7A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C45CF-7CBA-4100-87E8-E19EAC9C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2C52-BDF7-41B4-8355-3AD54C4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E3D60-FB3B-4D86-8BD5-4711747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E60CB-7D3A-450D-8B9F-826EF8A1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07BB4-DD72-4FC2-AEDD-9BF20B17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E5666-8055-48BB-8C88-E9013B1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F924E-AB24-4804-B18C-52E73499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72FAC-FE03-4BB1-9460-4C4D5D6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34AAC-2183-49D1-82D2-6218EAFF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D7296-DF78-489A-A43A-57EAA0B2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B5D53-70DD-4C16-9895-33D80348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0312C-3498-4BB7-A57C-8328E8F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57436-A195-4722-B5AC-6766A25A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A6BBF-5B5E-4961-909D-94043FF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F56C6-73E2-42EE-BCDA-8E4F7A3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0D344-022D-4CC1-B93A-3FBA170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967CC-128A-46C9-AA36-E196CF97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DF294-B708-4005-AE59-609BA26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1B701-CFA8-4527-879C-2533A99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2F4BD-D446-490C-973E-1CF2F505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9E585-BDCB-432E-9A6F-2FAED3B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11CD7-AFB8-4133-AF51-9F83732D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DC82B-9954-4C4E-9686-4E3A7B7A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247B-663E-4706-88CB-604AB45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BC526-18D4-458F-9318-86F8B9AA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C7EC4-61C7-422E-905D-4AE685C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2471-FAFF-4386-824B-3C022363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1051-D637-42C2-8D3D-4B4ED8C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EFAB-EC7A-4BE3-9803-76E8AB67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4B9D7-D2F2-4794-A93C-061579C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53593-F706-4206-AFFD-A6E28DAC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07FA-597A-4095-B623-C76CA506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9AA37-84BB-461D-92C3-4F4045FA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412FF-5B80-4FEC-9D03-F0E50F91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3CB8-32E9-40B0-A0D8-0BBA62B0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9CCC6-163F-4902-8080-4AFB8A6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DF1BF-A3B4-4A13-9753-7F040711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F0AB1-9B30-47B3-BA42-DBE670F2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A1AEF-01ED-4D7F-B193-24941F03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B72B3-3199-44DA-932C-D61814C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D4411-3854-4CC5-AB90-55AAF37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9C84F-7FA3-44D9-9687-69E9316E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2EF8A-EFAE-40AA-95F6-64A9482C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BDB6B-3A75-4ED3-83F2-4560AF4A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966F9-9781-4DEA-B31F-BC5EDA43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86A9D-BD48-484F-A75D-9C0FFE8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B8A7D-B55E-4C81-A170-C06ECB9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4D5AC-0AE1-402E-8558-DEA5C28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ABD06-012D-42C2-A84F-FACC8FC6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8E50D-CC87-4FF8-88B6-06FBF41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57207-A417-40C2-A13D-4F53CB59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CD933-1617-434A-B98C-AB15AA7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576CF-4811-479C-ADE8-494CE2E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ED155-2F93-406B-8BD1-C45A23E1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1A894E-D06D-403B-9781-966A44E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3A454-1B8E-4B0B-A430-8602C939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D1AE9-5936-42CD-8571-ECDD6EFD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9B3EF-AF76-4427-9DB2-492CC27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665FA-BD20-408D-A6EE-B20A921F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86E98-6FC1-4487-93B6-8C205301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E81A6-C3D6-49D5-9842-42F03A29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E42E8-DD28-4D2B-A79F-4117B250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7761E-D82F-481C-8891-FEA8DC14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42115-5365-4D4B-93DF-331006FB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7E096-EE73-442A-A149-9CDD64E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94A81-A51E-45C8-B408-4AC95E7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49B40-F4CF-44F0-84CF-47A43C3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C9221-BDCE-47A6-A965-5626603A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F6839-A7DB-4122-BC0A-F5B92080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DA340-4E49-4C86-9639-5AC8EE3F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694CC-3D08-423E-B6CC-1FE4941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334A8-9272-462F-B487-41862880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BBC155-DD91-47D4-91C7-A1DF7085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4E9A35-64DE-468A-A3FF-D87382DF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64477-D8D2-4BD0-9108-8F593E1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1670F-55C7-4DFB-8757-C98DFA4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7B43-90AA-4B72-B295-A86A794A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B98AD-8BBB-4407-B3ED-04064B4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29A7C-5B50-4B2A-B28A-CD1CA621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F1BE5-1949-433E-9BDA-C3E1CA52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3B012-013A-49A8-BAA1-3C8D3E30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5EC88-FC95-4C91-90CF-A027F099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5A41E-61B6-4AD0-9FAA-E1999A20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912F6-6CFB-437D-806A-A6770133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A9B6A-3F6B-478C-8C91-C5737AF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C170D-EC2E-43C8-BCC3-C0878D1D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F5A7A3-77C8-4E64-BCF4-0DAC9EA3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9E957-AC6A-401A-AA40-5B0594B4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47DF7-2292-4B51-813A-3AC1862F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56C9C-7CE2-45C1-BA9D-ED647A61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1EB9B-412F-4845-A7B1-1116958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5710F-5DF9-4F9B-8F08-9F645F82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22E3A-D544-4B43-96F7-EAE01E5B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063E70-A2A1-4387-A84E-AA606865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7F5C8-D77E-4AC3-A291-137FED2D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957AE-3CA5-4396-A4D8-CA43BEE2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15276-239B-4C87-ACCD-3D1DF6B9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129DD-0B31-4400-AA2B-8149232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2B342-FE6C-4B19-B39D-0F94CF5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83278-27C4-4292-B0D2-CA292EE5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A32FEA-456A-4B25-BD17-58A91B4A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BDB83-88FC-4579-942C-E98B726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A44F42-BE3B-48DA-A48F-4EC0428F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62559B-FF8B-4088-8E5D-EA055CB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CFED2-1464-4F76-8371-D2471169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7DBD87-3499-4D15-93A1-ED29739E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FD05B-1960-43BC-9B75-B86F48F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8A93D-D06A-4F8F-A039-CB3C1778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EB7F3-B028-4D81-94EA-B74AFCC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38CA0-E50D-4E23-AEBC-73516041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DF9B5-7F91-40B7-9AE6-E1AD5F25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E40BE-9A95-4E86-9D29-209E80B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1C934-76AF-4A62-9259-F1FF810A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D1698-9626-4B62-A0FC-AA290E7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6A211-CC25-462B-89DD-E2657E9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8B8CB-75D0-40A0-99AF-AF91C348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701CA-F70C-4F5B-9983-ED563C6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38952-F93C-4451-808C-C3C9DB9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BF271-75EB-46F8-B275-C922C634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751DA-AB6F-40C3-887A-41BBDAF8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F08C5-D150-44D8-AEAE-DB59DD99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1A0CA-1FEE-4257-BE45-B625A1E6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F7FDF-DD15-4A92-BB6B-3F2503E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4750A-F579-4152-8821-4BF5991B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B5FBA-6C9C-4ACB-8BC0-BB901A56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90D35-BA9A-4D88-9DCC-F95CDFE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F0128-AEF8-4608-BD7A-5B5108EA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2EFC3-72A9-4149-B716-DB1A352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95E26-C946-4A80-98E8-B5AD3B65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BF79A-7262-422E-9253-D57B7F4E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2521F-6E87-4661-BB52-3EFE4685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2F3D73-97E4-49D1-A923-0746916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4A988-FC5C-40D9-83A5-B0F3F9A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7C071-DB4F-484B-B38E-9BEEFB07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B6AD7-A0BD-41E5-A27E-D3C3CFAD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043D2-9C94-48AE-AA21-E52DCB9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BD9513-8FB3-4E1B-9924-707235E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30A182-0640-4E5B-859C-42A83827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72D09-364E-4E93-88AD-55007A8E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0521B1-2CB7-4D55-A025-AD8E5ACF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9EEA9-140D-4130-8B8E-E3B5D5CA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10785-D1D3-4924-A1B2-C3D3E756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2FF-E171-489A-9290-ECCF8844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3B2C-F5EC-4437-9A2C-558567C5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CE56-2CB0-4409-881F-76FC1647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E76-D32B-4759-AAE3-6D5B6333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414-52A3-4DA7-B96B-01AEEAAF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6C41-8B04-482B-9600-9BC5A2BB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BD87-E9ED-4AE5-91A1-25D27602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242C-B232-4A23-AB79-C2696DA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50C1-7A3E-4920-A742-C7B0272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4529-366E-4A46-97AA-90C1962B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F27E-332C-4A57-A975-760B9DF8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FA13-0D85-4784-9A33-2173C601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4351-1CFC-4578-9E03-ABBE9506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4EAF-502B-49BC-A51D-64879145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4D7D3-DFA0-4490-9C01-C31C16AF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5EC-ACA1-42B6-81BF-FD8B3A98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3A46-B044-463A-893C-3500BDA6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FD67-3632-4744-BE5D-69EF321F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8DD1-7EF6-4608-BD8C-73B4A1A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5988-75C0-4B20-AA88-E15A60FA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77B4-4918-48B6-856F-8F32D97B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9090B-20F3-4F81-AE58-9B7DAB5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5474-1E16-4418-B280-0A8093B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811A-BFAB-47D8-AED8-E1FF5F1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B005-73FC-47DA-AE5C-4EE14C95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FB4C-32CB-4C7F-A7BC-EB24A191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6A3-26B8-4F80-A3F9-C09079B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5B1C-16BE-42E9-8972-22726642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C6939-19F4-464F-B29A-D08E0A44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A289-44E7-4763-8181-801B75DC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639B-C78D-4E04-97CA-946586B8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712DF-DB8D-48AC-9304-C7DFACE7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D7B9C-0599-4404-8809-359F485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65B5E-CFDC-4E7A-B1B3-71652081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9994-2789-456C-8541-9F355D4F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2433-D981-4DD0-99F8-36C880FF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5B72-517C-4DBB-B834-7AEE338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32FD-60F6-428E-BDF7-4CA62188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7740-19AB-4902-85A3-C163C87A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36E2-5AAE-4F77-8849-29BD3656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F0DE-CFA3-4558-BD33-66258C73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C848-B3B6-4BB2-90FB-FB2E0004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C2A81-7552-4339-96BC-51084D9B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23F1B-5090-4581-AA25-81E4EFBF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0DE06-5165-4A2C-B3F1-F71E393D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CF2F1-C565-4842-8323-19D94870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64F7-1C04-47D2-9779-AEED1C6E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6461D-4541-4197-B87C-58C0A72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20F-1936-4A81-BB41-CB65A2E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B0272-F947-4B79-AAD2-BA75BE1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2528A-9A1B-4DFF-B716-D6115D1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BD71-02AB-4B3F-8842-FB0BB74D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92DC-1FAD-4E77-B879-95117CEA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9AE6-6F37-4D71-8BCE-3269ADD4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3308-A0E1-4820-9226-69552637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1155-071D-41EB-BFBC-83EA811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6146E-2B5B-412F-AE2C-772CFA1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FF46-29B7-4AC2-A72E-A9690E5C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52AF-E834-4B35-B5C6-09623C09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962A-71BE-4DF9-95AA-C4B1C05B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B8FDB-5AED-4F64-AB9E-9F86CAB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04A11-6FD0-48A6-AC22-47126A82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B16D-B53E-438C-A182-A3779B3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C003-69D2-4A70-B23F-EDCAEE0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47E4-6D73-4A59-B24B-EF545D4A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7073-D48B-4A52-A49D-EBC378D2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978A-F186-4E47-B0A6-39E7BA56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CE57-E5D2-4FA7-8F6D-4AE12EF5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E0B7C-C764-4B56-8190-0752ADE2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06DA2-D349-4F60-B8CF-9CDE058B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66AC-CB91-4334-ADEC-944EDA802388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3FF0-2E79-411A-9ED9-E99DF2CC151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EEA Logo"/>
          <p:cNvPicPr/>
          <p:nvPr/>
        </p:nvPicPr>
        <p:blipFill>
          <a:blip r:embed="rId4"/>
          <a:stretch/>
        </p:blipFill>
        <p:spPr>
          <a:xfrm>
            <a:off x="250920" y="-27792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gerb"/>
          <p:cNvPicPr/>
          <p:nvPr/>
        </p:nvPicPr>
        <p:blipFill>
          <a:blip r:embed="rId5"/>
          <a:stretch/>
        </p:blipFill>
        <p:spPr>
          <a:xfrm>
            <a:off x="1619280" y="-15732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91D-2915-416E-B029-96BCE4A5816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F456-55CA-46EF-A41E-EC4F95C4CDD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24E3-64BE-4909-B2E0-5A404EFB5A5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C5BB-E691-42DF-8C3C-34595BCB498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5288-9C83-4CF2-9749-55FCC6453E74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3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CBF-02E3-4193-91D5-F37CD01B577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8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391-8A0F-415C-A3BD-85642B2DFF13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"/>
          <p:cNvPicPr/>
          <p:nvPr/>
        </p:nvPicPr>
        <p:blipFill>
          <a:blip r:embed="rId5"/>
          <a:stretch/>
        </p:blipFill>
        <p:spPr>
          <a:xfrm>
            <a:off x="2903400" y="5526000"/>
            <a:ext cx="1105200" cy="9320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gerb"/>
          <p:cNvPicPr/>
          <p:nvPr/>
        </p:nvPicPr>
        <p:blipFill>
          <a:blip r:embed="rId6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2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CB9-D1B1-4CCC-B7D0-A6B731A7E7B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6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F3C-8A0F-4E7C-83FA-FC62E14DA568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EA Logo"/>
          <p:cNvPicPr/>
          <p:nvPr/>
        </p:nvPicPr>
        <p:blipFill>
          <a:blip r:embed="rId4"/>
          <a:stretch/>
        </p:blipFill>
        <p:spPr>
          <a:xfrm>
            <a:off x="324000" y="-3160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erb"/>
          <p:cNvPicPr/>
          <p:nvPr/>
        </p:nvPicPr>
        <p:blipFill>
          <a:blip r:embed="rId5"/>
          <a:stretch/>
        </p:blipFill>
        <p:spPr>
          <a:xfrm>
            <a:off x="1692360" y="-19512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4731-25BD-4A0E-87DA-0C8D5C4290E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2EDF-626F-4C47-AE9F-0572B3FE5147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D353-4150-4901-A010-9C041A2269A4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C20-58D9-4015-86AA-B0E9A2BFF1A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380D-C0F1-4805-A4EE-750256C5FAE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EEA Logo"/>
          <p:cNvPicPr/>
          <p:nvPr/>
        </p:nvPicPr>
        <p:blipFill>
          <a:blip r:embed="rId4"/>
          <a:stretch/>
        </p:blipFill>
        <p:spPr>
          <a:xfrm>
            <a:off x="32400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gerb"/>
          <p:cNvPicPr/>
          <p:nvPr/>
        </p:nvPicPr>
        <p:blipFill>
          <a:blip r:embed="rId5"/>
          <a:stretch/>
        </p:blipFill>
        <p:spPr>
          <a:xfrm>
            <a:off x="169236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E955-E61C-44D2-8105-2A992DFC45C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44B0-82C7-473B-9B48-C17C1910F40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8460-AF6F-4BF1-BE01-BC2262E57B1F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0AB-BCDD-45D2-9F92-2122188C62D8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ew.government.bg/?show=123" TargetMode="External"/><Relationship Id="rId2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ea@moew.government.bg" TargetMode="External"/><Relationship Id="rId2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907560" y="3784680"/>
            <a:ext cx="702972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Конференция за откриване на програми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и създаване на партньорств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офия, 25.06.20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526680" y="206028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редставяне и обща информация по програм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G02, BG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4"/>
          <p:cNvSpPr/>
          <p:nvPr/>
        </p:nvSpPr>
        <p:spPr>
          <a:xfrm>
            <a:off x="185760" y="1844640"/>
            <a:ext cx="8675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ена интеграция на съображения, свързани с биологичното разнообразие, в секторните политики и законодател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02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Картиране и оценка на екосистемни услуг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бюдже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195 236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50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8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3 Секторни политики за системното използване на екосистемните услуг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бюдже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проекти межд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0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30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Допустими кандидати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ционални публични органи, общини, научни и образователни организации, в т.ч. университети,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Всички избрани проекти трябва да предоставят информация в Националната система за мониторинг на биологичното разнообразие (НСМБ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Срок за подаване на проектите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3 месеца за всички по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G02.03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ще стартира след уточняване на националния подход и методики (предмет на стратегически проект по програмата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8"/>
          <p:cNvSpPr/>
          <p:nvPr/>
        </p:nvSpPr>
        <p:spPr>
          <a:xfrm>
            <a:off x="468360" y="4726080"/>
            <a:ext cx="8207280" cy="2016000"/>
          </a:xfrm>
          <a:prstGeom prst="rect">
            <a:avLst/>
          </a:prstGeom>
          <a:solidFill>
            <a:srgbClr val="669900">
              <a:alpha val="47000"/>
            </a:srgbClr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6"/>
          <p:cNvSpPr/>
          <p:nvPr/>
        </p:nvSpPr>
        <p:spPr>
          <a:xfrm>
            <a:off x="466560" y="3502080"/>
            <a:ext cx="8207640" cy="1224000"/>
          </a:xfrm>
          <a:prstGeom prst="rect">
            <a:avLst/>
          </a:prstGeom>
          <a:solidFill>
            <a:srgbClr val="cc0000">
              <a:alpha val="47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468360" y="1557360"/>
            <a:ext cx="8207280" cy="1944720"/>
          </a:xfrm>
          <a:prstGeom prst="rect">
            <a:avLst/>
          </a:prstGeom>
          <a:solidFill>
            <a:srgbClr val="c0504d">
              <a:alpha val="39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347640" y="274680"/>
            <a:ext cx="5256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Следващи стъ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AutoShape 5"/>
          <p:cNvSpPr/>
          <p:nvPr/>
        </p:nvSpPr>
        <p:spPr>
          <a:xfrm>
            <a:off x="619200" y="1935000"/>
            <a:ext cx="4089240" cy="57636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обр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каните от дон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611280" y="414972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яс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1"/>
          <p:cNvSpPr/>
          <p:nvPr/>
        </p:nvSpPr>
        <p:spPr>
          <a:xfrm>
            <a:off x="4068720" y="386244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аване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3"/>
          <p:cNvSpPr/>
          <p:nvPr/>
        </p:nvSpPr>
        <p:spPr>
          <a:xfrm>
            <a:off x="603360" y="2662200"/>
            <a:ext cx="4105080" cy="50472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убликуване на пока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7"/>
          <p:cNvSpPr/>
          <p:nvPr/>
        </p:nvSpPr>
        <p:spPr>
          <a:xfrm>
            <a:off x="625320" y="4869000"/>
            <a:ext cx="4883400" cy="50472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8"/>
          <p:cNvSpPr/>
          <p:nvPr/>
        </p:nvSpPr>
        <p:spPr>
          <a:xfrm>
            <a:off x="611280" y="5446800"/>
            <a:ext cx="496872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ласиране на проек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ъздаване на резервен спис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9"/>
          <p:cNvSpPr/>
          <p:nvPr/>
        </p:nvSpPr>
        <p:spPr>
          <a:xfrm>
            <a:off x="611280" y="6021360"/>
            <a:ext cx="4968720" cy="57636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лючване на договори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5148360" y="1770120"/>
            <a:ext cx="33004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Индикативно: юли 2014  з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2,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грантова схема и покани 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Втора половина на 2014 з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3,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пока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7"/>
          <p:cNvSpPr/>
          <p:nvPr/>
        </p:nvSpPr>
        <p:spPr>
          <a:xfrm>
            <a:off x="5375160" y="3984480"/>
            <a:ext cx="33116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Октомвр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5364000" y="5373720"/>
            <a:ext cx="33116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 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Декемв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5"/>
          <p:cNvSpPr/>
          <p:nvPr/>
        </p:nvSpPr>
        <p:spPr>
          <a:xfrm>
            <a:off x="611280" y="357336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бор на независ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цен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2916360" y="115920"/>
            <a:ext cx="58323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Актуална информ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1166760" y="2276640"/>
            <a:ext cx="755964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ограмен оператор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дирекция „Координация по въпросите на ЕС и международно сътрудничество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Адрес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офия 1000, ул. „Ул. Гладстон“ №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Интернет страница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програмния опера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oew.government.bg/?show=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ea@moew.government.b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ериод 2007-2009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Общ размер на помощта 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– 41,5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о ФМ на Европейското икономическо пространство - успешно изпълнени 9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а в сектор «Околна среда» на обща стойност 4,14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о Норвежката програма за сътрудничество - успешно изпълн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проекта в сектор «Околна среда»  на обща стойност 2,37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ериод 2009-2014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Общ размер на помощта 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– 126,6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Сектор „Околна среда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ФМ на Европейското икономическо пространство – две прог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02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„Интегрирано управление на морските и вътрешните води“ –  8 млн. евр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„Биоразнообразие и екосистемни услуги“ –  8 млн. евр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риоритетни сектори за сътрудниче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и управление на околната 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ени в кли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ъзобновяеми енергийни източници (ВЕИ) и енергийна ефектив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жданско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овешко и социално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зване на културното насл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ижи за дец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адемични изслед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987280" y="414000"/>
            <a:ext cx="5699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ФМ на ЕИ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009-2014 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и на Финансовия механизъ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аляване на икономическото и социално неравен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на двустранните отно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ласт Околна среда, МОСВ е определено за програмен оператор (ПО) на 2 прог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G02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нтегрирано управление на морските и вътрешни 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G03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иологично разнообразие и екосисте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норски програмен партньор по двете програми -Норвежката агенцията за околна сре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Нормативна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уред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Меморандум за разбирател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ламент и приложения към н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Европейско и национално законодателство, 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опазване на околната среда, Закон за водите, Законза биологичното разнообразие и поднормативна уред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обществените поръчки/ПМС 69.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държавните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ово, счетоводно, да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ъчно законодател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855520" y="333000"/>
            <a:ext cx="588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онална рам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AutoShape 13"/>
          <p:cNvSpPr/>
          <p:nvPr/>
        </p:nvSpPr>
        <p:spPr>
          <a:xfrm>
            <a:off x="539640" y="1700280"/>
            <a:ext cx="825516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2"/>
          <p:cNvSpPr/>
          <p:nvPr/>
        </p:nvSpPr>
        <p:spPr>
          <a:xfrm>
            <a:off x="141120" y="3735360"/>
            <a:ext cx="8858520" cy="2533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4"/>
          <p:cNvSpPr/>
          <p:nvPr/>
        </p:nvSpPr>
        <p:spPr>
          <a:xfrm>
            <a:off x="1839960" y="2822400"/>
            <a:ext cx="2690640" cy="309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Национално контактно звено - 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5"/>
          <p:cNvSpPr/>
          <p:nvPr/>
        </p:nvSpPr>
        <p:spPr>
          <a:xfrm>
            <a:off x="2913120" y="1805040"/>
            <a:ext cx="3251160" cy="563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Комитет на финансовия механизъм на ЕИ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фис на финансовия механизъм на ЕИ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6"/>
          <p:cNvSpPr/>
          <p:nvPr/>
        </p:nvSpPr>
        <p:spPr>
          <a:xfrm>
            <a:off x="4927680" y="2836800"/>
            <a:ext cx="2268360" cy="311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Сертифициращ орган - М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7"/>
          <p:cNvSpPr/>
          <p:nvPr/>
        </p:nvSpPr>
        <p:spPr>
          <a:xfrm>
            <a:off x="6227640" y="3278160"/>
            <a:ext cx="2268720" cy="311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дитен орган – ИА ОС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8"/>
          <p:cNvSpPr/>
          <p:nvPr/>
        </p:nvSpPr>
        <p:spPr>
          <a:xfrm>
            <a:off x="3325680" y="3800520"/>
            <a:ext cx="2268720" cy="314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грамен опер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9"/>
          <p:cNvSpPr/>
          <p:nvPr/>
        </p:nvSpPr>
        <p:spPr>
          <a:xfrm>
            <a:off x="1055520" y="4732200"/>
            <a:ext cx="22687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Project 1 (predef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10"/>
          <p:cNvSpPr/>
          <p:nvPr/>
        </p:nvSpPr>
        <p:spPr>
          <a:xfrm>
            <a:off x="952560" y="4732200"/>
            <a:ext cx="237168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екти 1,2 (предефинира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11"/>
          <p:cNvSpPr/>
          <p:nvPr/>
        </p:nvSpPr>
        <p:spPr>
          <a:xfrm>
            <a:off x="3532320" y="4732200"/>
            <a:ext cx="22669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екти 3… n (от поканит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2"/>
          <p:cNvSpPr/>
          <p:nvPr/>
        </p:nvSpPr>
        <p:spPr>
          <a:xfrm>
            <a:off x="6008760" y="4732200"/>
            <a:ext cx="22669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Дейности на ниво прог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3"/>
          <p:cNvSpPr/>
          <p:nvPr/>
        </p:nvSpPr>
        <p:spPr>
          <a:xfrm>
            <a:off x="212760" y="5450040"/>
            <a:ext cx="115092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4"/>
          <p:cNvSpPr/>
          <p:nvPr/>
        </p:nvSpPr>
        <p:spPr>
          <a:xfrm>
            <a:off x="1403280" y="5450040"/>
            <a:ext cx="168588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5"/>
          <p:cNvSpPr/>
          <p:nvPr/>
        </p:nvSpPr>
        <p:spPr>
          <a:xfrm>
            <a:off x="4927680" y="2368440"/>
            <a:ext cx="619200" cy="4539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AutoShape 16"/>
          <p:cNvCxnSpPr>
            <a:stCxn id="968" idx="2"/>
            <a:endCxn id="971" idx="0"/>
          </p:cNvCxnSpPr>
          <p:nvPr/>
        </p:nvCxnSpPr>
        <p:spPr>
          <a:xfrm rot="5400000">
            <a:off x="1259640" y="4571640"/>
            <a:ext cx="405720" cy="1351800"/>
          </a:xfrm>
          <a:prstGeom prst="bentConnector3">
            <a:avLst>
              <a:gd name="adj1" fmla="val 50000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5" name="AutoShape 17"/>
          <p:cNvCxnSpPr>
            <a:stCxn id="968" idx="2"/>
            <a:endCxn id="972" idx="0"/>
          </p:cNvCxnSpPr>
          <p:nvPr/>
        </p:nvCxnSpPr>
        <p:spPr>
          <a:xfrm flipH="1" rot="16200000">
            <a:off x="1989720" y="5193000"/>
            <a:ext cx="40572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6" name="AutoShape 18"/>
          <p:cNvCxnSpPr>
            <a:stCxn id="969" idx="2"/>
            <a:endCxn id="977" idx="0"/>
          </p:cNvCxnSpPr>
          <p:nvPr/>
        </p:nvCxnSpPr>
        <p:spPr>
          <a:xfrm rot="5400000">
            <a:off x="3987720" y="4777560"/>
            <a:ext cx="410400" cy="94536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8" name="AutoShape 19"/>
          <p:cNvCxnSpPr>
            <a:stCxn id="969" idx="2"/>
            <a:endCxn id="979" idx="0"/>
          </p:cNvCxnSpPr>
          <p:nvPr/>
        </p:nvCxnSpPr>
        <p:spPr>
          <a:xfrm flipH="1" rot="16200000">
            <a:off x="4732200" y="4977360"/>
            <a:ext cx="410400" cy="54540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80" name="AutoShape 20"/>
          <p:cNvCxnSpPr>
            <a:stCxn id="970" idx="2"/>
            <a:endCxn id="981" idx="0"/>
          </p:cNvCxnSpPr>
          <p:nvPr/>
        </p:nvCxnSpPr>
        <p:spPr>
          <a:xfrm rot="5400000">
            <a:off x="6693480" y="5006880"/>
            <a:ext cx="410400" cy="48636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82" name="AutoShape 21"/>
          <p:cNvCxnSpPr/>
          <p:nvPr/>
        </p:nvCxnSpPr>
        <p:spPr>
          <a:xfrm flipH="1" rot="16200000">
            <a:off x="7257240" y="4862880"/>
            <a:ext cx="410400" cy="77400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983" name="Line 22"/>
          <p:cNvSpPr/>
          <p:nvPr/>
        </p:nvSpPr>
        <p:spPr>
          <a:xfrm flipH="1">
            <a:off x="1363680" y="4114800"/>
            <a:ext cx="309888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3"/>
          <p:cNvSpPr/>
          <p:nvPr/>
        </p:nvSpPr>
        <p:spPr>
          <a:xfrm flipH="1">
            <a:off x="4253040" y="4114800"/>
            <a:ext cx="20952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24"/>
          <p:cNvSpPr/>
          <p:nvPr/>
        </p:nvSpPr>
        <p:spPr>
          <a:xfrm>
            <a:off x="4460760" y="4114800"/>
            <a:ext cx="196056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25"/>
          <p:cNvSpPr/>
          <p:nvPr/>
        </p:nvSpPr>
        <p:spPr>
          <a:xfrm flipV="1">
            <a:off x="2603520" y="4113360"/>
            <a:ext cx="928800" cy="620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6"/>
          <p:cNvSpPr/>
          <p:nvPr/>
        </p:nvSpPr>
        <p:spPr>
          <a:xfrm flipH="1" flipV="1">
            <a:off x="4145040" y="4122720"/>
            <a:ext cx="317520" cy="611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7"/>
          <p:cNvSpPr/>
          <p:nvPr/>
        </p:nvSpPr>
        <p:spPr>
          <a:xfrm flipH="1" flipV="1">
            <a:off x="5284440" y="4113360"/>
            <a:ext cx="1344600" cy="620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8"/>
          <p:cNvSpPr/>
          <p:nvPr/>
        </p:nvSpPr>
        <p:spPr>
          <a:xfrm flipV="1">
            <a:off x="3692520" y="3146400"/>
            <a:ext cx="1440" cy="58896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9"/>
          <p:cNvSpPr/>
          <p:nvPr/>
        </p:nvSpPr>
        <p:spPr>
          <a:xfrm flipV="1">
            <a:off x="5187960" y="3146400"/>
            <a:ext cx="15840" cy="65232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0"/>
          <p:cNvSpPr/>
          <p:nvPr/>
        </p:nvSpPr>
        <p:spPr>
          <a:xfrm flipV="1">
            <a:off x="3692520" y="2367000"/>
            <a:ext cx="1440" cy="3110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1"/>
          <p:cNvSpPr/>
          <p:nvPr/>
        </p:nvSpPr>
        <p:spPr>
          <a:xfrm>
            <a:off x="539640" y="5383080"/>
            <a:ext cx="825516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8160" bIns="-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32"/>
          <p:cNvSpPr/>
          <p:nvPr/>
        </p:nvSpPr>
        <p:spPr>
          <a:xfrm flipH="1" flipV="1">
            <a:off x="6030720" y="3146400"/>
            <a:ext cx="1236600" cy="13176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33"/>
          <p:cNvSpPr/>
          <p:nvPr/>
        </p:nvSpPr>
        <p:spPr>
          <a:xfrm flipH="1" flipV="1">
            <a:off x="3754440" y="3146400"/>
            <a:ext cx="2473200" cy="26208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4"/>
          <p:cNvSpPr/>
          <p:nvPr/>
        </p:nvSpPr>
        <p:spPr>
          <a:xfrm>
            <a:off x="5251320" y="3147840"/>
            <a:ext cx="262080" cy="650880"/>
          </a:xfrm>
          <a:prstGeom prst="downArrow">
            <a:avLst>
              <a:gd name="adj1" fmla="val 50000"/>
              <a:gd name="adj2" fmla="val 62088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35"/>
          <p:cNvSpPr/>
          <p:nvPr/>
        </p:nvSpPr>
        <p:spPr>
          <a:xfrm>
            <a:off x="961920" y="2479680"/>
            <a:ext cx="649440" cy="130320"/>
          </a:xfrm>
          <a:prstGeom prst="rightArrow">
            <a:avLst>
              <a:gd name="adj1" fmla="val 50000"/>
              <a:gd name="adj2" fmla="val 124586"/>
            </a:avLst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36"/>
          <p:cNvSpPr/>
          <p:nvPr/>
        </p:nvSpPr>
        <p:spPr>
          <a:xfrm>
            <a:off x="961920" y="2335320"/>
            <a:ext cx="649440" cy="14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8"/>
          <p:cNvSpPr/>
          <p:nvPr/>
        </p:nvSpPr>
        <p:spPr>
          <a:xfrm>
            <a:off x="3135240" y="5454720"/>
            <a:ext cx="117000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39"/>
          <p:cNvSpPr/>
          <p:nvPr/>
        </p:nvSpPr>
        <p:spPr>
          <a:xfrm>
            <a:off x="4357800" y="5454720"/>
            <a:ext cx="170496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0"/>
          <p:cNvSpPr/>
          <p:nvPr/>
        </p:nvSpPr>
        <p:spPr>
          <a:xfrm>
            <a:off x="6081840" y="5454720"/>
            <a:ext cx="114768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1"/>
          <p:cNvSpPr/>
          <p:nvPr/>
        </p:nvSpPr>
        <p:spPr>
          <a:xfrm>
            <a:off x="7267680" y="5433840"/>
            <a:ext cx="1712880" cy="579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7"/>
          <p:cNvSpPr/>
          <p:nvPr/>
        </p:nvSpPr>
        <p:spPr>
          <a:xfrm>
            <a:off x="7461360" y="2316240"/>
            <a:ext cx="1230120" cy="768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Други контролни орг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2"/>
          <p:cNvSpPr/>
          <p:nvPr/>
        </p:nvSpPr>
        <p:spPr>
          <a:xfrm flipH="1" flipV="1">
            <a:off x="6161040" y="2238120"/>
            <a:ext cx="1300320" cy="3236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9"/>
          <p:cNvSpPr/>
          <p:nvPr/>
        </p:nvSpPr>
        <p:spPr>
          <a:xfrm flipV="1">
            <a:off x="4651200" y="2368440"/>
            <a:ext cx="16200" cy="143208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9"/>
          <p:cNvSpPr/>
          <p:nvPr/>
        </p:nvSpPr>
        <p:spPr>
          <a:xfrm flipH="1">
            <a:off x="3173040" y="2627280"/>
            <a:ext cx="4287960" cy="19512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9"/>
          <p:cNvSpPr/>
          <p:nvPr/>
        </p:nvSpPr>
        <p:spPr>
          <a:xfrm flipH="1">
            <a:off x="7203600" y="2627280"/>
            <a:ext cx="257400" cy="3920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755640" y="1773360"/>
            <a:ext cx="1766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Леге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тчет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ла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179280" y="1960560"/>
            <a:ext cx="8823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ано управление на ресурсите от морски и вътрешни води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2.01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 бюдж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2 8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00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7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4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ен мониторинг на морските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G02.02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юджет  2 800 000 EUR, проекти между 170 000 и 2 400 000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ен капацитет за оценка и предвиждане на екологичния статус на морските и вътрешни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2.0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юджет  1 400 000 EUR, проекти между 170 000 и 1 200 000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Допустими кандидати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ционални публични органи, общини, научно-изследователски организации, в т.ч. университети,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Срок за подаване на проектите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3 месеца за всички по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4"/>
          <p:cNvSpPr/>
          <p:nvPr/>
        </p:nvSpPr>
        <p:spPr>
          <a:xfrm>
            <a:off x="179280" y="1916280"/>
            <a:ext cx="86407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ено познаване на и образование по въпросите на биологичното разнообразие и екосистемни услуги, в т.ч. познаване на и образование относно връзката между биологичното разнообразие и изменението на климата, както и на икономическата оценка на екосистем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Малка грантова схем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SGS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- Национална кампания за осведоменост и образование чрез доброволчески дейности и подкрепящи действия с бюдж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 000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5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ишена защита на местните екосистеми срещу инвазивни чужди видове (ИЧ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G03.01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- Мрежа за работа с инвазивните чужди видове, за обмен на информация и изграждане на капацитет, бюджет на покана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80 000 EUR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ще бъде избрано едно партньорство за създаване на регионална мреж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проучване и ранно предупреждение за ИЧ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04:30Z</dcterms:created>
  <dc:creator>user_DTK</dc:creator>
  <dc:description/>
  <dc:language>en-US</dc:language>
  <cp:lastModifiedBy>ASotirov</cp:lastModifiedBy>
  <dcterms:modified xsi:type="dcterms:W3CDTF">2014-06-24T13:07:47Z</dcterms:modified>
  <cp:revision>144</cp:revision>
  <dc:subject/>
  <dc:title>Slide 1</dc:title>
</cp:coreProperties>
</file>